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9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1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5.png" ContentType="image/png"/>
  <Override PartName="/ppt/media/image28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96F-27FD-4930-9BF5-F03AE2A5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D7B-4C7A-4E76-979A-FF0092AD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902-3B20-492A-AD07-8A850CE6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EF6-6BAC-4F38-99FE-35E07D7D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82D-390E-4684-91E3-0A7E7693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315-0A1C-4733-94AB-9353120B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59A-D127-4C2D-B5A5-214C1FE0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315-5C72-4086-9C72-E0BEA061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1F1-2FD0-44C2-B073-4A280234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0AA-4C23-4654-B446-4CF0266D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D9F-06F5-433E-931C-66E08B1C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BCE-208A-4AFA-B4E8-9903D5A2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AB0E-8A24-451F-8226-564B9EFF8D94}" type="slidenum">
              <a:rPr b="0" lang="ru-RU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826920" y="1217520"/>
            <a:ext cx="3021120" cy="30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42" name="Группа 14"/>
          <p:cNvGrpSpPr/>
          <p:nvPr/>
        </p:nvGrpSpPr>
        <p:grpSpPr>
          <a:xfrm>
            <a:off x="5505480" y="1049400"/>
            <a:ext cx="2881440" cy="3612960"/>
            <a:chOff x="5505480" y="1049400"/>
            <a:chExt cx="2881440" cy="3612960"/>
          </a:xfrm>
        </p:grpSpPr>
        <p:pic>
          <p:nvPicPr>
            <p:cNvPr id="43" name="Рисунок 1" descr=""/>
            <p:cNvPicPr/>
            <p:nvPr/>
          </p:nvPicPr>
          <p:blipFill>
            <a:blip r:embed="rId2"/>
            <a:stretch/>
          </p:blipFill>
          <p:spPr>
            <a:xfrm rot="16200000">
              <a:off x="5139720" y="1415160"/>
              <a:ext cx="3612960" cy="2881440"/>
            </a:xfrm>
            <a:prstGeom prst="rect">
              <a:avLst/>
            </a:prstGeom>
            <a:ln w="0">
              <a:noFill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44" name="Прямоугольник 5"/>
            <p:cNvSpPr/>
            <p:nvPr/>
          </p:nvSpPr>
          <p:spPr>
            <a:xfrm rot="16200000">
              <a:off x="5676120" y="1907640"/>
              <a:ext cx="2562120" cy="187416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" name="Рисунок 13" descr=""/>
          <p:cNvPicPr/>
          <p:nvPr/>
        </p:nvPicPr>
        <p:blipFill>
          <a:blip r:embed="rId3"/>
          <a:srcRect l="0" t="0" r="0" b="16827"/>
          <a:stretch/>
        </p:blipFill>
        <p:spPr>
          <a:xfrm>
            <a:off x="1198440" y="1589040"/>
            <a:ext cx="2278080" cy="234000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3"/>
          <p:cNvGrpSpPr/>
          <p:nvPr/>
        </p:nvGrpSpPr>
        <p:grpSpPr>
          <a:xfrm>
            <a:off x="2278080" y="2332080"/>
            <a:ext cx="1368360" cy="2262240"/>
            <a:chOff x="2278080" y="2332080"/>
            <a:chExt cx="1368360" cy="2262240"/>
          </a:xfrm>
        </p:grpSpPr>
        <p:pic>
          <p:nvPicPr>
            <p:cNvPr id="47" name="Рисунок 8" descr=""/>
            <p:cNvPicPr/>
            <p:nvPr/>
          </p:nvPicPr>
          <p:blipFill>
            <a:blip r:embed="rId4"/>
            <a:stretch/>
          </p:blipFill>
          <p:spPr>
            <a:xfrm>
              <a:off x="2278080" y="3101760"/>
              <a:ext cx="856440" cy="11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Рисунок 9" descr=""/>
            <p:cNvPicPr/>
            <p:nvPr/>
          </p:nvPicPr>
          <p:blipFill>
            <a:blip r:embed="rId5"/>
            <a:stretch/>
          </p:blipFill>
          <p:spPr>
            <a:xfrm>
              <a:off x="2490840" y="3442320"/>
              <a:ext cx="105408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Рисунок 10" descr=""/>
            <p:cNvPicPr/>
            <p:nvPr/>
          </p:nvPicPr>
          <p:blipFill>
            <a:blip r:embed="rId6"/>
            <a:stretch/>
          </p:blipFill>
          <p:spPr>
            <a:xfrm>
              <a:off x="2916720" y="2729880"/>
              <a:ext cx="729720" cy="9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Рисунок 11" descr=""/>
            <p:cNvPicPr/>
            <p:nvPr/>
          </p:nvPicPr>
          <p:blipFill>
            <a:blip r:embed="rId7"/>
            <a:stretch/>
          </p:blipFill>
          <p:spPr>
            <a:xfrm>
              <a:off x="2617560" y="2332080"/>
              <a:ext cx="734760" cy="98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Рисунок 15" descr=""/>
          <p:cNvPicPr/>
          <p:nvPr/>
        </p:nvPicPr>
        <p:blipFill>
          <a:blip r:embed="rId8"/>
          <a:srcRect l="0" t="7694" r="0" b="0"/>
          <a:stretch/>
        </p:blipFill>
        <p:spPr>
          <a:xfrm>
            <a:off x="5940360" y="1309680"/>
            <a:ext cx="20163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52" name="Группа 16"/>
          <p:cNvGrpSpPr/>
          <p:nvPr/>
        </p:nvGrpSpPr>
        <p:grpSpPr>
          <a:xfrm>
            <a:off x="7070040" y="2070000"/>
            <a:ext cx="1028880" cy="1825560"/>
            <a:chOff x="7070040" y="2070000"/>
            <a:chExt cx="1028880" cy="1825560"/>
          </a:xfrm>
        </p:grpSpPr>
        <p:pic>
          <p:nvPicPr>
            <p:cNvPr id="53" name="Рисунок 17" descr=""/>
            <p:cNvPicPr/>
            <p:nvPr/>
          </p:nvPicPr>
          <p:blipFill>
            <a:blip r:embed="rId9"/>
            <a:stretch/>
          </p:blipFill>
          <p:spPr>
            <a:xfrm rot="21599400">
              <a:off x="7075080" y="2700720"/>
              <a:ext cx="816120" cy="112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Рисунок 18" descr=""/>
            <p:cNvPicPr/>
            <p:nvPr/>
          </p:nvPicPr>
          <p:blipFill>
            <a:blip r:embed="rId10"/>
            <a:stretch/>
          </p:blipFill>
          <p:spPr>
            <a:xfrm rot="21599400">
              <a:off x="7457760" y="2978640"/>
              <a:ext cx="641160" cy="91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Рисунок 19" descr=""/>
            <p:cNvPicPr/>
            <p:nvPr/>
          </p:nvPicPr>
          <p:blipFill>
            <a:blip r:embed="rId11"/>
            <a:stretch/>
          </p:blipFill>
          <p:spPr>
            <a:xfrm rot="21599400">
              <a:off x="7376760" y="2301480"/>
              <a:ext cx="691200" cy="94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Рисунок 20" descr=""/>
            <p:cNvPicPr/>
            <p:nvPr/>
          </p:nvPicPr>
          <p:blipFill>
            <a:blip r:embed="rId12"/>
            <a:stretch/>
          </p:blipFill>
          <p:spPr>
            <a:xfrm rot="21599400">
              <a:off x="7070040" y="2069640"/>
              <a:ext cx="691200" cy="94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Скругленный прямоугольник 21"/>
          <p:cNvSpPr/>
          <p:nvPr/>
        </p:nvSpPr>
        <p:spPr>
          <a:xfrm>
            <a:off x="2141640" y="177840"/>
            <a:ext cx="4932360" cy="68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Звучащие карт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763640" y="917640"/>
            <a:ext cx="5616720" cy="382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Скругленный прямоугольник 2"/>
          <p:cNvSpPr/>
          <p:nvPr/>
        </p:nvSpPr>
        <p:spPr>
          <a:xfrm>
            <a:off x="2484360" y="123840"/>
            <a:ext cx="424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пределит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Овал 3"/>
          <p:cNvSpPr/>
          <p:nvPr/>
        </p:nvSpPr>
        <p:spPr>
          <a:xfrm>
            <a:off x="3203640" y="1552680"/>
            <a:ext cx="2736720" cy="2735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1"/>
          <p:cNvSpPr/>
          <p:nvPr/>
        </p:nvSpPr>
        <p:spPr>
          <a:xfrm>
            <a:off x="2484360" y="4292640"/>
            <a:ext cx="42483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Гитарис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3311280" cy="4019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763640" y="917640"/>
            <a:ext cx="5616720" cy="382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" name="Скругленный прямоугольник 2"/>
          <p:cNvSpPr/>
          <p:nvPr/>
        </p:nvSpPr>
        <p:spPr>
          <a:xfrm>
            <a:off x="2484360" y="123840"/>
            <a:ext cx="424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пределит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3203640" y="1552680"/>
            <a:ext cx="2736720" cy="2735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Скругленный прямоугольник 1"/>
          <p:cNvSpPr/>
          <p:nvPr/>
        </p:nvSpPr>
        <p:spPr>
          <a:xfrm>
            <a:off x="2484360" y="4227480"/>
            <a:ext cx="42483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«Игра на фортепиан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3127320" y="123840"/>
            <a:ext cx="2889360" cy="3867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763640" y="917640"/>
            <a:ext cx="5616720" cy="382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Скругленный прямоугольник 2"/>
          <p:cNvSpPr/>
          <p:nvPr/>
        </p:nvSpPr>
        <p:spPr>
          <a:xfrm>
            <a:off x="2484360" y="123840"/>
            <a:ext cx="424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пределит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3"/>
          <p:cNvSpPr/>
          <p:nvPr/>
        </p:nvSpPr>
        <p:spPr>
          <a:xfrm>
            <a:off x="3203640" y="1552680"/>
            <a:ext cx="2736720" cy="2735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1"/>
          <p:cNvSpPr/>
          <p:nvPr/>
        </p:nvSpPr>
        <p:spPr>
          <a:xfrm>
            <a:off x="2484360" y="4292640"/>
            <a:ext cx="42483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«Дама за клавесин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2987640" y="181080"/>
            <a:ext cx="3168720" cy="3975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1"/>
          <p:cNvSpPr/>
          <p:nvPr/>
        </p:nvSpPr>
        <p:spPr>
          <a:xfrm>
            <a:off x="3517920" y="4208400"/>
            <a:ext cx="2179440" cy="59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лавес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2627280" y="555480"/>
            <a:ext cx="3535560" cy="322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1"/>
          <p:cNvSpPr/>
          <p:nvPr/>
        </p:nvSpPr>
        <p:spPr>
          <a:xfrm>
            <a:off x="2484360" y="4292640"/>
            <a:ext cx="42483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«Дама за клавесин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2987640" y="181080"/>
            <a:ext cx="3168720" cy="3975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763640" y="917640"/>
            <a:ext cx="5616720" cy="382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Скругленный прямоугольник 2"/>
          <p:cNvSpPr/>
          <p:nvPr/>
        </p:nvSpPr>
        <p:spPr>
          <a:xfrm>
            <a:off x="2484360" y="123840"/>
            <a:ext cx="424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пределит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3"/>
          <p:cNvSpPr/>
          <p:nvPr/>
        </p:nvSpPr>
        <p:spPr>
          <a:xfrm>
            <a:off x="3203640" y="1552680"/>
            <a:ext cx="2736720" cy="2735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763640" y="917640"/>
            <a:ext cx="5616720" cy="382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Скругленный прямоугольник 2"/>
          <p:cNvSpPr/>
          <p:nvPr/>
        </p:nvSpPr>
        <p:spPr>
          <a:xfrm>
            <a:off x="2484360" y="123840"/>
            <a:ext cx="424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пределит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039760" y="2333520"/>
            <a:ext cx="1165320" cy="1165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3311640" y="2333520"/>
            <a:ext cx="1164960" cy="1165320"/>
          </a:xfrm>
          <a:prstGeom prst="ellipse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4583160" y="2333520"/>
            <a:ext cx="1165320" cy="1165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6"/>
          <p:cNvSpPr/>
          <p:nvPr/>
        </p:nvSpPr>
        <p:spPr>
          <a:xfrm>
            <a:off x="5856120" y="2333520"/>
            <a:ext cx="1165320" cy="1165320"/>
          </a:xfrm>
          <a:prstGeom prst="ellipse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3166920" y="123840"/>
            <a:ext cx="2810160" cy="4137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" name="Скругленный прямоугольник 2"/>
          <p:cNvSpPr/>
          <p:nvPr/>
        </p:nvSpPr>
        <p:spPr>
          <a:xfrm>
            <a:off x="3157560" y="4365720"/>
            <a:ext cx="29019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Родн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1"/>
          <p:cNvSpPr/>
          <p:nvPr/>
        </p:nvSpPr>
        <p:spPr>
          <a:xfrm>
            <a:off x="2484360" y="4365720"/>
            <a:ext cx="424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Опять двой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2230560" y="189000"/>
            <a:ext cx="4755960" cy="4084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кругленный прямоугольник 1"/>
          <p:cNvSpPr/>
          <p:nvPr/>
        </p:nvSpPr>
        <p:spPr>
          <a:xfrm>
            <a:off x="3011400" y="4292640"/>
            <a:ext cx="319248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Флейтис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rcRect l="0" t="0" r="0" b="2577"/>
          <a:stretch/>
        </p:blipFill>
        <p:spPr>
          <a:xfrm>
            <a:off x="3419640" y="122400"/>
            <a:ext cx="2376360" cy="3976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2268360" y="2355840"/>
            <a:ext cx="3411720" cy="34131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"/>
          <p:cNvPicPr/>
          <p:nvPr/>
        </p:nvPicPr>
        <p:blipFill>
          <a:blip r:embed="rId2"/>
          <a:stretch/>
        </p:blipFill>
        <p:spPr>
          <a:xfrm>
            <a:off x="755640" y="1058760"/>
            <a:ext cx="1728720" cy="1665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"/>
          <p:cNvPicPr/>
          <p:nvPr/>
        </p:nvPicPr>
        <p:blipFill>
          <a:blip r:embed="rId3"/>
          <a:stretch/>
        </p:blipFill>
        <p:spPr>
          <a:xfrm>
            <a:off x="6507000" y="1276200"/>
            <a:ext cx="1978200" cy="3383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"/>
          <p:cNvPicPr/>
          <p:nvPr/>
        </p:nvPicPr>
        <p:blipFill>
          <a:blip r:embed="rId4"/>
          <a:stretch/>
        </p:blipFill>
        <p:spPr>
          <a:xfrm flipH="1" rot="5637000">
            <a:off x="4645440" y="1182960"/>
            <a:ext cx="1008360" cy="1666800"/>
          </a:xfrm>
          <a:prstGeom prst="rect">
            <a:avLst/>
          </a:prstGeom>
          <a:ln w="0">
            <a:noFill/>
          </a:ln>
        </p:spPr>
      </p:pic>
      <p:sp>
        <p:nvSpPr>
          <p:cNvPr id="68" name="Скругленный прямоугольник 5"/>
          <p:cNvSpPr/>
          <p:nvPr/>
        </p:nvSpPr>
        <p:spPr>
          <a:xfrm>
            <a:off x="2484360" y="123840"/>
            <a:ext cx="4248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узыкальные инструме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Скругленный прямоугольник 1"/>
          <p:cNvSpPr/>
          <p:nvPr/>
        </p:nvSpPr>
        <p:spPr>
          <a:xfrm>
            <a:off x="2484360" y="4292640"/>
            <a:ext cx="42483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«Юноша с лютн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2100240" y="195120"/>
            <a:ext cx="5014800" cy="394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 rot="19065000">
            <a:off x="3914280" y="330120"/>
            <a:ext cx="1386000" cy="3657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2" name="Скругленный прямоугольник 4"/>
          <p:cNvSpPr/>
          <p:nvPr/>
        </p:nvSpPr>
        <p:spPr>
          <a:xfrm>
            <a:off x="3408480" y="4149720"/>
            <a:ext cx="239868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лют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кругленный прямоугольник 1"/>
          <p:cNvSpPr/>
          <p:nvPr/>
        </p:nvSpPr>
        <p:spPr>
          <a:xfrm>
            <a:off x="2484360" y="4292640"/>
            <a:ext cx="4248360" cy="65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«Юноша с лютн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2100240" y="195120"/>
            <a:ext cx="5014800" cy="394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1882800" y="858960"/>
            <a:ext cx="5378400" cy="394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Скругленный прямоугольник 2"/>
          <p:cNvSpPr/>
          <p:nvPr/>
        </p:nvSpPr>
        <p:spPr>
          <a:xfrm>
            <a:off x="2484360" y="123840"/>
            <a:ext cx="4248360" cy="65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пределите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4"/>
          <p:cNvSpPr/>
          <p:nvPr/>
        </p:nvSpPr>
        <p:spPr>
          <a:xfrm>
            <a:off x="2631960" y="2239920"/>
            <a:ext cx="1368720" cy="1368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3"/>
          <p:cNvSpPr/>
          <p:nvPr/>
        </p:nvSpPr>
        <p:spPr>
          <a:xfrm>
            <a:off x="2627280" y="2236680"/>
            <a:ext cx="1368360" cy="13669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5"/>
          <p:cNvSpPr/>
          <p:nvPr/>
        </p:nvSpPr>
        <p:spPr>
          <a:xfrm>
            <a:off x="5224320" y="2236680"/>
            <a:ext cx="1368720" cy="1366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вал 6"/>
          <p:cNvSpPr/>
          <p:nvPr/>
        </p:nvSpPr>
        <p:spPr>
          <a:xfrm>
            <a:off x="5219640" y="2232000"/>
            <a:ext cx="1368360" cy="1368360"/>
          </a:xfrm>
          <a:prstGeom prst="ellipse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1T09:40:24Z</dcterms:created>
  <dc:creator>Пользователь</dc:creator>
  <dc:description/>
  <dc:language>en-US</dc:language>
  <cp:lastModifiedBy>Пользователь</cp:lastModifiedBy>
  <dcterms:modified xsi:type="dcterms:W3CDTF">2014-12-18T15:52:22Z</dcterms:modified>
  <cp:revision>138</cp:revision>
  <dc:subject/>
  <dc:title>Презентация PowerPoint</dc:title>
</cp:coreProperties>
</file>