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F55-AC96-4F65-AFEE-80BD9912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C44D-1691-4E6F-9AAB-CCC124FD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675C-FD8D-48AE-A910-6D3C1620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7FB1-2E76-4689-870A-E0CACCDA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FF17-0DC1-4363-85E6-F869D67C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E885-A309-4A9A-A696-94BF10DE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77CC-9874-432E-A71C-35D49FBC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1FF1-116F-49E0-A9DA-C3B51CAB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144E-7306-4349-B75E-9B012A5F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3514-359E-4DC5-9709-757339BB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654F-E23D-4203-9536-D55B2A3B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7A6-56E8-408A-85AB-6F3A7BBC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2535-BD61-43E8-8F45-FEB94300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093F-03DA-4B22-9261-3D834271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8BD9-856A-4EB0-9A71-BAAA3893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C556-38F4-4BD8-A913-F782D1E3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9127-35F0-443C-AF2B-B2932195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8A3-5632-4A4A-97D7-74680312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896-4E54-4E8E-A498-C0E6CBB1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C6C7-E412-44EF-BAE5-E5A4CA74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7B57-D972-4D7E-A7B0-5B9FD56E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145-561E-4381-B8D7-4D680059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7C12-9A2F-42C0-8FCD-D0818F77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1BE0-0E09-4EF5-AF60-BB929AF4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2B41-7E93-45C9-9B5D-9A528ABEFC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6A72-056A-4A65-9692-C65A6DDF3CC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jpeg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1915920"/>
            <a:ext cx="6912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3357360"/>
            <a:ext cx="741672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«ФАКТОРЫ СРЕДЫ И ИХ ВЛИЯНИЕ НА БИОЦЕНОЗЫ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9" descr="PE01561_"/>
          <p:cNvPicPr/>
          <p:nvPr/>
        </p:nvPicPr>
        <p:blipFill>
          <a:blip r:embed="rId1"/>
          <a:stretch/>
        </p:blipFill>
        <p:spPr>
          <a:xfrm>
            <a:off x="6443640" y="4724280"/>
            <a:ext cx="2489400" cy="1843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BS02064_"/>
          <p:cNvPicPr/>
          <p:nvPr/>
        </p:nvPicPr>
        <p:blipFill>
          <a:blip r:embed="rId2"/>
          <a:stretch/>
        </p:blipFill>
        <p:spPr>
          <a:xfrm>
            <a:off x="468360" y="476280"/>
            <a:ext cx="1368360" cy="121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1"/>
          <p:cNvSpPr/>
          <p:nvPr/>
        </p:nvSpPr>
        <p:spPr>
          <a:xfrm>
            <a:off x="1943280" y="260280"/>
            <a:ext cx="7200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2124000" y="5734080"/>
            <a:ext cx="403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0066"/>
                </a:solidFill>
                <a:uFillTx/>
                <a:latin typeface="Times New Roman"/>
              </a:rPr>
              <a:t>7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Times New Roman"/>
              </a:rPr>
              <a:t>«ФАКТОРЫ СРЕДЫ И ИХ ВЛИЯНИЕ НА БИОЦЕНОЗЫ»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39640" y="2637000"/>
            <a:ext cx="2952720" cy="1150920"/>
          </a:xfrm>
          <a:prstGeom prst="rect">
            <a:avLst/>
          </a:prstGeom>
          <a:solidFill>
            <a:srgbClr val="ffff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ОЛОГИЧЕСКИ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АКТО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3780000" y="3068640"/>
            <a:ext cx="36036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3780000" y="3284640"/>
            <a:ext cx="36036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4427640" y="2205000"/>
            <a:ext cx="4248000" cy="2016000"/>
          </a:xfrm>
          <a:prstGeom prst="rect">
            <a:avLst/>
          </a:prstGeom>
          <a:solidFill>
            <a:srgbClr val="ffff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ОНЕНТ ВНЕШНЕЙ СРЕДЫ, ВОЗДЕЙСТВУЮЩИЙ (ВЛИЯЮЩИЙ) НА ОРГАН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740720" y="907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айд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Times New Roman"/>
              </a:rPr>
              <a:t>«ФАКТОРЫ СРЕДЫ И ИХ ВЛИЯНИЕ НА БИОЦЕНОЗЫ»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68360" y="981000"/>
            <a:ext cx="4680000" cy="792360"/>
          </a:xfrm>
          <a:prstGeom prst="rect">
            <a:avLst/>
          </a:prstGeom>
          <a:solidFill>
            <a:srgbClr val="ffff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КОЛОГИЧЕСКИ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АКТОРЫ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ЛИЯЮЩИЕ НА ОРГАНИЗ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740720" y="907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айд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24000" y="2205000"/>
            <a:ext cx="2735280" cy="1008000"/>
          </a:xfrm>
          <a:prstGeom prst="rect">
            <a:avLst/>
          </a:prstGeom>
          <a:solidFill>
            <a:srgbClr val="ffcc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Факторы неживой природы (АБИОТИЧЕСКИЕ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276720" y="2205000"/>
            <a:ext cx="2735280" cy="1008000"/>
          </a:xfrm>
          <a:prstGeom prst="rect">
            <a:avLst/>
          </a:prstGeom>
          <a:solidFill>
            <a:srgbClr val="ffcc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Факторы живой природы (БИОТИЧЕСКИЕ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6156360" y="2205000"/>
            <a:ext cx="2735280" cy="1008000"/>
          </a:xfrm>
          <a:prstGeom prst="rect">
            <a:avLst/>
          </a:prstGeom>
          <a:solidFill>
            <a:srgbClr val="ffcc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Факторы, связанные с воздействием человека на природу (АНТРОПОГЕННЫЕ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324000" y="3573360"/>
            <a:ext cx="2735280" cy="280836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температура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све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влажность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концентрация соле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давление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осадк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рельеф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движение воздушных мас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3276720" y="3573360"/>
            <a:ext cx="2735280" cy="280836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влияние организмов или популяций одного вида друг на друг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взаимодействие особей или популяций разных ви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6156360" y="3573360"/>
            <a:ext cx="2735280" cy="280836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ямое воздействие человека на организмы и популяции, экологические системы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воздействие человека на среду обитания различных ви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1403280" y="3213000"/>
            <a:ext cx="50472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4356000" y="3213000"/>
            <a:ext cx="5050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7236000" y="3213000"/>
            <a:ext cx="50472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18"/>
          <p:cNvSpPr/>
          <p:nvPr/>
        </p:nvSpPr>
        <p:spPr>
          <a:xfrm>
            <a:off x="1547640" y="1916280"/>
            <a:ext cx="59770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19"/>
          <p:cNvSpPr/>
          <p:nvPr/>
        </p:nvSpPr>
        <p:spPr>
          <a:xfrm>
            <a:off x="1547640" y="1916280"/>
            <a:ext cx="0" cy="288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20"/>
          <p:cNvSpPr/>
          <p:nvPr/>
        </p:nvSpPr>
        <p:spPr>
          <a:xfrm>
            <a:off x="7524720" y="1916280"/>
            <a:ext cx="0" cy="288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21"/>
          <p:cNvSpPr/>
          <p:nvPr/>
        </p:nvSpPr>
        <p:spPr>
          <a:xfrm>
            <a:off x="4643280" y="1773360"/>
            <a:ext cx="0" cy="4316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Times New Roman"/>
              </a:rPr>
              <a:t>в 7 классе «ФАКТОРЫ СРЕДЫ И ИХ ВЛИЯНИЕ НА БИОЦЕНОЗЫ»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211640" y="2492280"/>
            <a:ext cx="1727280" cy="503280"/>
          </a:xfrm>
          <a:prstGeom prst="rect">
            <a:avLst/>
          </a:prstGeom>
          <a:solidFill>
            <a:srgbClr val="ffff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ШЕНИЦ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7920000" y="7650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айд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203640" y="1916280"/>
            <a:ext cx="3817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АБИОТИЧЕСКИЕ фактор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79280" y="3716280"/>
            <a:ext cx="1297080" cy="136836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Плодородие почвы (результат разложения тел погибших организмов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619280" y="3716280"/>
            <a:ext cx="1152360" cy="136836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Паразити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ческие грибы (головня, спорынья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2987640" y="3716280"/>
            <a:ext cx="936720" cy="79236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Злаковая мух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4"/>
          <p:cNvSpPr/>
          <p:nvPr/>
        </p:nvSpPr>
        <p:spPr>
          <a:xfrm>
            <a:off x="2124000" y="1844640"/>
            <a:ext cx="59770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15"/>
          <p:cNvSpPr/>
          <p:nvPr/>
        </p:nvSpPr>
        <p:spPr>
          <a:xfrm flipH="1">
            <a:off x="5940360" y="2708280"/>
            <a:ext cx="1224000" cy="1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16"/>
          <p:cNvSpPr/>
          <p:nvPr/>
        </p:nvSpPr>
        <p:spPr>
          <a:xfrm>
            <a:off x="2700360" y="1628640"/>
            <a:ext cx="0" cy="216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17"/>
          <p:cNvSpPr/>
          <p:nvPr/>
        </p:nvSpPr>
        <p:spPr>
          <a:xfrm>
            <a:off x="2411280" y="2708280"/>
            <a:ext cx="172908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1908000" y="1052640"/>
            <a:ext cx="1873440" cy="576000"/>
          </a:xfrm>
          <a:prstGeom prst="rect">
            <a:avLst/>
          </a:prstGeom>
          <a:solidFill>
            <a:srgbClr val="99c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Солнц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(световой фактор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3924360" y="1052640"/>
            <a:ext cx="1368360" cy="576000"/>
          </a:xfrm>
          <a:prstGeom prst="rect">
            <a:avLst/>
          </a:prstGeom>
          <a:solidFill>
            <a:srgbClr val="99c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Температур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20"/>
          <p:cNvSpPr/>
          <p:nvPr/>
        </p:nvSpPr>
        <p:spPr>
          <a:xfrm>
            <a:off x="5435640" y="1052640"/>
            <a:ext cx="1655640" cy="576000"/>
          </a:xfrm>
          <a:prstGeom prst="rect">
            <a:avLst/>
          </a:prstGeom>
          <a:solidFill>
            <a:srgbClr val="99c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Влажность воздуха и почв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21"/>
          <p:cNvSpPr/>
          <p:nvPr/>
        </p:nvSpPr>
        <p:spPr>
          <a:xfrm>
            <a:off x="7236000" y="1052640"/>
            <a:ext cx="936360" cy="576000"/>
          </a:xfrm>
          <a:prstGeom prst="rect">
            <a:avLst/>
          </a:prstGeom>
          <a:solidFill>
            <a:srgbClr val="99c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Осадк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22"/>
          <p:cNvSpPr/>
          <p:nvPr/>
        </p:nvSpPr>
        <p:spPr>
          <a:xfrm>
            <a:off x="4643280" y="1628640"/>
            <a:ext cx="0" cy="216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23"/>
          <p:cNvSpPr/>
          <p:nvPr/>
        </p:nvSpPr>
        <p:spPr>
          <a:xfrm>
            <a:off x="6156360" y="1628640"/>
            <a:ext cx="0" cy="216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24"/>
          <p:cNvSpPr/>
          <p:nvPr/>
        </p:nvSpPr>
        <p:spPr>
          <a:xfrm>
            <a:off x="7740720" y="1628640"/>
            <a:ext cx="0" cy="216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25"/>
          <p:cNvSpPr/>
          <p:nvPr/>
        </p:nvSpPr>
        <p:spPr>
          <a:xfrm>
            <a:off x="1692360" y="1628640"/>
            <a:ext cx="431640" cy="216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26"/>
          <p:cNvSpPr/>
          <p:nvPr/>
        </p:nvSpPr>
        <p:spPr>
          <a:xfrm flipH="1">
            <a:off x="8100720" y="1557360"/>
            <a:ext cx="431640" cy="28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27"/>
          <p:cNvSpPr/>
          <p:nvPr/>
        </p:nvSpPr>
        <p:spPr>
          <a:xfrm>
            <a:off x="3708360" y="2276640"/>
            <a:ext cx="2879640" cy="0"/>
          </a:xfrm>
          <a:prstGeom prst="line">
            <a:avLst/>
          </a:prstGeom>
          <a:ln cap="rnd" w="316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8"/>
          <p:cNvSpPr/>
          <p:nvPr/>
        </p:nvSpPr>
        <p:spPr>
          <a:xfrm>
            <a:off x="5076720" y="2276640"/>
            <a:ext cx="0" cy="215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29"/>
          <p:cNvSpPr/>
          <p:nvPr/>
        </p:nvSpPr>
        <p:spPr>
          <a:xfrm>
            <a:off x="5688000" y="314172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АНТРОПОГЕННЫЕ фактор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30"/>
          <p:cNvSpPr/>
          <p:nvPr/>
        </p:nvSpPr>
        <p:spPr>
          <a:xfrm>
            <a:off x="6012000" y="3141720"/>
            <a:ext cx="2879640" cy="0"/>
          </a:xfrm>
          <a:prstGeom prst="line">
            <a:avLst/>
          </a:prstGeom>
          <a:ln cap="rnd" w="316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31"/>
          <p:cNvSpPr/>
          <p:nvPr/>
        </p:nvSpPr>
        <p:spPr>
          <a:xfrm>
            <a:off x="539640" y="3141720"/>
            <a:ext cx="3818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БИОТИЧЕСКИЕ фактор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32"/>
          <p:cNvSpPr/>
          <p:nvPr/>
        </p:nvSpPr>
        <p:spPr>
          <a:xfrm>
            <a:off x="1116000" y="3141720"/>
            <a:ext cx="2879640" cy="0"/>
          </a:xfrm>
          <a:prstGeom prst="line">
            <a:avLst/>
          </a:prstGeom>
          <a:ln cap="rnd" w="316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4140360" y="3716280"/>
            <a:ext cx="1008000" cy="79236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Хлебная жужелиц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5"/>
          <p:cNvSpPr/>
          <p:nvPr/>
        </p:nvSpPr>
        <p:spPr>
          <a:xfrm>
            <a:off x="3276720" y="4724280"/>
            <a:ext cx="172692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Полевой жавороно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36"/>
          <p:cNvSpPr/>
          <p:nvPr/>
        </p:nvSpPr>
        <p:spPr>
          <a:xfrm>
            <a:off x="684360" y="5445000"/>
            <a:ext cx="158256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Сорняк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37"/>
          <p:cNvSpPr/>
          <p:nvPr/>
        </p:nvSpPr>
        <p:spPr>
          <a:xfrm>
            <a:off x="2484360" y="5445000"/>
            <a:ext cx="158292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Полевк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38"/>
          <p:cNvSpPr/>
          <p:nvPr/>
        </p:nvSpPr>
        <p:spPr>
          <a:xfrm>
            <a:off x="2411280" y="6093000"/>
            <a:ext cx="1729080" cy="50472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Обыкновенный сарыч (канюк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39"/>
          <p:cNvSpPr/>
          <p:nvPr/>
        </p:nvSpPr>
        <p:spPr>
          <a:xfrm>
            <a:off x="468360" y="3500280"/>
            <a:ext cx="45352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40"/>
          <p:cNvSpPr/>
          <p:nvPr/>
        </p:nvSpPr>
        <p:spPr>
          <a:xfrm flipH="1" flipV="1">
            <a:off x="5003280" y="3500280"/>
            <a:ext cx="360360" cy="216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41"/>
          <p:cNvSpPr/>
          <p:nvPr/>
        </p:nvSpPr>
        <p:spPr>
          <a:xfrm flipH="1">
            <a:off x="-360" y="3500280"/>
            <a:ext cx="468360" cy="216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43"/>
          <p:cNvSpPr/>
          <p:nvPr/>
        </p:nvSpPr>
        <p:spPr>
          <a:xfrm>
            <a:off x="900000" y="3500280"/>
            <a:ext cx="0" cy="216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195640" y="3500280"/>
            <a:ext cx="0" cy="216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45"/>
          <p:cNvSpPr/>
          <p:nvPr/>
        </p:nvSpPr>
        <p:spPr>
          <a:xfrm>
            <a:off x="3419640" y="3500280"/>
            <a:ext cx="0" cy="216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46"/>
          <p:cNvSpPr/>
          <p:nvPr/>
        </p:nvSpPr>
        <p:spPr>
          <a:xfrm>
            <a:off x="4572000" y="3500280"/>
            <a:ext cx="0" cy="216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47"/>
          <p:cNvSpPr/>
          <p:nvPr/>
        </p:nvSpPr>
        <p:spPr>
          <a:xfrm>
            <a:off x="3492360" y="4508640"/>
            <a:ext cx="0" cy="215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48"/>
          <p:cNvSpPr/>
          <p:nvPr/>
        </p:nvSpPr>
        <p:spPr>
          <a:xfrm>
            <a:off x="4572000" y="4508640"/>
            <a:ext cx="0" cy="215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49"/>
          <p:cNvSpPr/>
          <p:nvPr/>
        </p:nvSpPr>
        <p:spPr>
          <a:xfrm>
            <a:off x="1547640" y="3500280"/>
            <a:ext cx="0" cy="1944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50"/>
          <p:cNvSpPr/>
          <p:nvPr/>
        </p:nvSpPr>
        <p:spPr>
          <a:xfrm>
            <a:off x="2916360" y="3500280"/>
            <a:ext cx="0" cy="1944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51"/>
          <p:cNvSpPr/>
          <p:nvPr/>
        </p:nvSpPr>
        <p:spPr>
          <a:xfrm>
            <a:off x="2916360" y="5877000"/>
            <a:ext cx="0" cy="216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52"/>
          <p:cNvSpPr/>
          <p:nvPr/>
        </p:nvSpPr>
        <p:spPr>
          <a:xfrm>
            <a:off x="2411280" y="2708280"/>
            <a:ext cx="0" cy="43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53"/>
          <p:cNvSpPr/>
          <p:nvPr/>
        </p:nvSpPr>
        <p:spPr>
          <a:xfrm>
            <a:off x="6012000" y="3716280"/>
            <a:ext cx="100800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Сбор урож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55"/>
          <p:cNvSpPr/>
          <p:nvPr/>
        </p:nvSpPr>
        <p:spPr>
          <a:xfrm>
            <a:off x="7380360" y="3716280"/>
            <a:ext cx="1584360" cy="1513080"/>
          </a:xfrm>
          <a:prstGeom prst="rect">
            <a:avLst/>
          </a:prstGeom>
          <a:solidFill>
            <a:srgbClr val="cc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Агротехнические мероприятия (внесение удобрений, рыхление почвы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56"/>
          <p:cNvSpPr/>
          <p:nvPr/>
        </p:nvSpPr>
        <p:spPr>
          <a:xfrm>
            <a:off x="6516720" y="5445000"/>
            <a:ext cx="1368360" cy="648000"/>
          </a:xfrm>
          <a:prstGeom prst="rect">
            <a:avLst/>
          </a:prstGeom>
          <a:solidFill>
            <a:srgbClr val="cc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Times New Roman"/>
              </a:rPr>
              <a:t>Защита от вредителе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58"/>
          <p:cNvSpPr/>
          <p:nvPr/>
        </p:nvSpPr>
        <p:spPr>
          <a:xfrm>
            <a:off x="6588000" y="3500280"/>
            <a:ext cx="0" cy="216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59"/>
          <p:cNvSpPr/>
          <p:nvPr/>
        </p:nvSpPr>
        <p:spPr>
          <a:xfrm>
            <a:off x="6156360" y="3500280"/>
            <a:ext cx="2663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60"/>
          <p:cNvSpPr/>
          <p:nvPr/>
        </p:nvSpPr>
        <p:spPr>
          <a:xfrm flipH="1">
            <a:off x="5796000" y="3500280"/>
            <a:ext cx="396720" cy="289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61"/>
          <p:cNvSpPr/>
          <p:nvPr/>
        </p:nvSpPr>
        <p:spPr>
          <a:xfrm flipH="1" flipV="1">
            <a:off x="8783280" y="3500280"/>
            <a:ext cx="360360" cy="216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62"/>
          <p:cNvSpPr/>
          <p:nvPr/>
        </p:nvSpPr>
        <p:spPr>
          <a:xfrm>
            <a:off x="8172360" y="3500280"/>
            <a:ext cx="0" cy="216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63"/>
          <p:cNvSpPr/>
          <p:nvPr/>
        </p:nvSpPr>
        <p:spPr>
          <a:xfrm>
            <a:off x="7164360" y="3500280"/>
            <a:ext cx="0" cy="1944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64"/>
          <p:cNvSpPr/>
          <p:nvPr/>
        </p:nvSpPr>
        <p:spPr>
          <a:xfrm>
            <a:off x="7164360" y="2708280"/>
            <a:ext cx="0" cy="43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14"/>
          <p:cNvSpPr/>
          <p:nvPr/>
        </p:nvSpPr>
        <p:spPr>
          <a:xfrm>
            <a:off x="1187280" y="1413000"/>
            <a:ext cx="662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Times New Roman"/>
              </a:rPr>
              <a:t>в 7 классе «ФАКТОРЫ СРЕДЫ И ИХ ВЛИЯНИЕ НА БИОЦЕНОЗЫ»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692360" y="981000"/>
            <a:ext cx="5616360" cy="792360"/>
          </a:xfrm>
          <a:prstGeom prst="rect">
            <a:avLst/>
          </a:prstGeom>
          <a:solidFill>
            <a:srgbClr val="cc99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ИПЫ ЭКОЛОГИЧЕСКИХ ВЗАИМОДЕЙСТВ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7740720" y="907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айд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24000" y="2205000"/>
            <a:ext cx="194436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Взаимо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олез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2556000" y="2205000"/>
            <a:ext cx="187164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олезно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нейтраль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6804000" y="2205000"/>
            <a:ext cx="208764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Взаимо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вред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250920" y="4797360"/>
            <a:ext cx="194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лишайники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рак-отшельник и акти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11"/>
          <p:cNvSpPr/>
          <p:nvPr/>
        </p:nvSpPr>
        <p:spPr>
          <a:xfrm>
            <a:off x="971640" y="4508640"/>
            <a:ext cx="50472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1187280" y="1413000"/>
            <a:ext cx="0" cy="79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7812000" y="1413000"/>
            <a:ext cx="0" cy="79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3564000" y="1773360"/>
            <a:ext cx="0" cy="4316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4643280" y="2205000"/>
            <a:ext cx="187200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олезно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вред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580000" y="1773360"/>
            <a:ext cx="0" cy="4316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324000" y="3213000"/>
            <a:ext cx="1944360" cy="7923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Симбио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2484360" y="3213000"/>
            <a:ext cx="1944720" cy="7923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Комменса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4643280" y="3213000"/>
            <a:ext cx="1944720" cy="7923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Паразитизм, хищнич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23"/>
          <p:cNvSpPr/>
          <p:nvPr/>
        </p:nvSpPr>
        <p:spPr>
          <a:xfrm>
            <a:off x="6804000" y="3213000"/>
            <a:ext cx="1944720" cy="7923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imes New Roman"/>
              </a:rPr>
              <a:t>Внутривидовая и межвидовая конкуренц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24"/>
          <p:cNvSpPr/>
          <p:nvPr/>
        </p:nvSpPr>
        <p:spPr>
          <a:xfrm>
            <a:off x="3492360" y="2997360"/>
            <a:ext cx="0" cy="2156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1187280" y="2997360"/>
            <a:ext cx="0" cy="2156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5580000" y="2997360"/>
            <a:ext cx="0" cy="2156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7812000" y="2997360"/>
            <a:ext cx="0" cy="2156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28"/>
          <p:cNvSpPr/>
          <p:nvPr/>
        </p:nvSpPr>
        <p:spPr>
          <a:xfrm>
            <a:off x="395280" y="4076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            Р             И             М             Е             Р           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3132000" y="4508640"/>
            <a:ext cx="50508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30"/>
          <p:cNvSpPr/>
          <p:nvPr/>
        </p:nvSpPr>
        <p:spPr>
          <a:xfrm>
            <a:off x="5292720" y="4508640"/>
            <a:ext cx="50472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AutoShape 31"/>
          <p:cNvSpPr/>
          <p:nvPr/>
        </p:nvSpPr>
        <p:spPr>
          <a:xfrm>
            <a:off x="7524720" y="4508640"/>
            <a:ext cx="50472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2411280" y="479736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гиены и льв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3"/>
          <p:cNvSpPr/>
          <p:nvPr/>
        </p:nvSpPr>
        <p:spPr>
          <a:xfrm>
            <a:off x="4572000" y="4797360"/>
            <a:ext cx="194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гриб трутовик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рысь и заяц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бычий цепень и челове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34"/>
          <p:cNvSpPr/>
          <p:nvPr/>
        </p:nvSpPr>
        <p:spPr>
          <a:xfrm>
            <a:off x="6804000" y="4797360"/>
            <a:ext cx="2160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серая и черная крысы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тигр и волк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соболь и куница-харз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35" descr="MCj01922310000[1]"/>
          <p:cNvPicPr/>
          <p:nvPr/>
        </p:nvPicPr>
        <p:blipFill>
          <a:blip r:embed="rId1"/>
          <a:stretch/>
        </p:blipFill>
        <p:spPr>
          <a:xfrm>
            <a:off x="3492360" y="5157720"/>
            <a:ext cx="648000" cy="573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6" descr="MCj03244440000[1]"/>
          <p:cNvPicPr/>
          <p:nvPr/>
        </p:nvPicPr>
        <p:blipFill>
          <a:blip r:embed="rId2"/>
          <a:stretch/>
        </p:blipFill>
        <p:spPr>
          <a:xfrm>
            <a:off x="2268360" y="5157720"/>
            <a:ext cx="863640" cy="652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7" descr="MCj03362510000[1]"/>
          <p:cNvPicPr/>
          <p:nvPr/>
        </p:nvPicPr>
        <p:blipFill>
          <a:blip r:embed="rId3"/>
          <a:stretch/>
        </p:blipFill>
        <p:spPr>
          <a:xfrm>
            <a:off x="8244000" y="5853240"/>
            <a:ext cx="592200" cy="1004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8" descr="MCj04241300000[1]"/>
          <p:cNvPicPr/>
          <p:nvPr/>
        </p:nvPicPr>
        <p:blipFill>
          <a:blip r:embed="rId4"/>
          <a:stretch/>
        </p:blipFill>
        <p:spPr>
          <a:xfrm>
            <a:off x="6804000" y="6021360"/>
            <a:ext cx="936720" cy="635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0" descr="MCj04324010000[1]"/>
          <p:cNvPicPr/>
          <p:nvPr/>
        </p:nvPicPr>
        <p:blipFill>
          <a:blip r:embed="rId5"/>
          <a:stretch/>
        </p:blipFill>
        <p:spPr>
          <a:xfrm>
            <a:off x="5435640" y="5877000"/>
            <a:ext cx="720720" cy="703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1" descr="MCAN00647_0000[1]"/>
          <p:cNvPicPr/>
          <p:nvPr/>
        </p:nvPicPr>
        <p:blipFill>
          <a:blip r:embed="rId6"/>
          <a:stretch/>
        </p:blipFill>
        <p:spPr>
          <a:xfrm>
            <a:off x="4140360" y="5892840"/>
            <a:ext cx="863280" cy="674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2" descr="MPj02554830000[1]"/>
          <p:cNvPicPr/>
          <p:nvPr/>
        </p:nvPicPr>
        <p:blipFill>
          <a:blip r:embed="rId7"/>
          <a:stretch/>
        </p:blipFill>
        <p:spPr>
          <a:xfrm>
            <a:off x="1187280" y="6093000"/>
            <a:ext cx="792360" cy="523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3" descr="MCj03469630000[1]"/>
          <p:cNvPicPr/>
          <p:nvPr/>
        </p:nvPicPr>
        <p:blipFill>
          <a:blip r:embed="rId8"/>
          <a:stretch/>
        </p:blipFill>
        <p:spPr>
          <a:xfrm>
            <a:off x="179280" y="5694480"/>
            <a:ext cx="792360" cy="57312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48"/>
          <p:cNvGrpSpPr/>
          <p:nvPr/>
        </p:nvGrpSpPr>
        <p:grpSpPr>
          <a:xfrm>
            <a:off x="900000" y="6093000"/>
            <a:ext cx="288720" cy="288720"/>
            <a:chOff x="900000" y="6093000"/>
            <a:chExt cx="288720" cy="288720"/>
          </a:xfrm>
        </p:grpSpPr>
        <p:sp>
          <p:nvSpPr>
            <p:cNvPr id="240" name="Line 46"/>
            <p:cNvSpPr/>
            <p:nvPr/>
          </p:nvSpPr>
          <p:spPr>
            <a:xfrm>
              <a:off x="900000" y="6237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47"/>
            <p:cNvSpPr/>
            <p:nvPr/>
          </p:nvSpPr>
          <p:spPr>
            <a:xfrm>
              <a:off x="1044360" y="60930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Group 49"/>
          <p:cNvGrpSpPr/>
          <p:nvPr/>
        </p:nvGrpSpPr>
        <p:grpSpPr>
          <a:xfrm>
            <a:off x="3059280" y="5300640"/>
            <a:ext cx="288720" cy="289080"/>
            <a:chOff x="3059280" y="5300640"/>
            <a:chExt cx="288720" cy="289080"/>
          </a:xfrm>
        </p:grpSpPr>
        <p:sp>
          <p:nvSpPr>
            <p:cNvPr id="243" name="Line 50"/>
            <p:cNvSpPr/>
            <p:nvPr/>
          </p:nvSpPr>
          <p:spPr>
            <a:xfrm>
              <a:off x="3059280" y="5445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Line 51"/>
            <p:cNvSpPr/>
            <p:nvPr/>
          </p:nvSpPr>
          <p:spPr>
            <a:xfrm>
              <a:off x="3203640" y="5300640"/>
              <a:ext cx="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Group 52"/>
          <p:cNvGrpSpPr/>
          <p:nvPr/>
        </p:nvGrpSpPr>
        <p:grpSpPr>
          <a:xfrm>
            <a:off x="5076720" y="6165720"/>
            <a:ext cx="288720" cy="289080"/>
            <a:chOff x="5076720" y="6165720"/>
            <a:chExt cx="288720" cy="289080"/>
          </a:xfrm>
        </p:grpSpPr>
        <p:sp>
          <p:nvSpPr>
            <p:cNvPr id="246" name="Line 53"/>
            <p:cNvSpPr/>
            <p:nvPr/>
          </p:nvSpPr>
          <p:spPr>
            <a:xfrm>
              <a:off x="5076720" y="6310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Line 54"/>
            <p:cNvSpPr/>
            <p:nvPr/>
          </p:nvSpPr>
          <p:spPr>
            <a:xfrm>
              <a:off x="5221080" y="6165720"/>
              <a:ext cx="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" name="Group 55"/>
          <p:cNvGrpSpPr/>
          <p:nvPr/>
        </p:nvGrpSpPr>
        <p:grpSpPr>
          <a:xfrm>
            <a:off x="7885080" y="6165720"/>
            <a:ext cx="288720" cy="289080"/>
            <a:chOff x="7885080" y="6165720"/>
            <a:chExt cx="288720" cy="289080"/>
          </a:xfrm>
        </p:grpSpPr>
        <p:sp>
          <p:nvSpPr>
            <p:cNvPr id="249" name="Line 56"/>
            <p:cNvSpPr/>
            <p:nvPr/>
          </p:nvSpPr>
          <p:spPr>
            <a:xfrm>
              <a:off x="7885080" y="6310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8029440" y="6165720"/>
              <a:ext cx="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660066"/>
                </a:solidFill>
                <a:latin typeface="Times New Roman"/>
              </a:rPr>
              <a:t>в 7 классе «ФАКТОРЫ СРЕДЫ И ИХ ВЛИЯНИЕ НА БИОЦЕНОЗЫ»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84360" y="1197000"/>
            <a:ext cx="7704000" cy="430200"/>
          </a:xfrm>
          <a:prstGeom prst="rect">
            <a:avLst/>
          </a:prstGeom>
          <a:solidFill>
            <a:srgbClr val="ffff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нтропогенные факторы, отрицательно воздействующие на природ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920000" y="83664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айд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79280" y="1844640"/>
          <a:ext cx="8785440" cy="4805280"/>
        </p:xfrm>
        <a:graphic>
          <a:graphicData uri="http://schemas.openxmlformats.org/drawingml/2006/table">
            <a:tbl>
              <a:tblPr/>
              <a:tblGrid>
                <a:gridCol w="2952720"/>
                <a:gridCol w="5832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Содержание деятельности челове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Последствия данной деятель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.Прямое истребление биологических вид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олное вымирание странствующего голубя, бескрылой гагарки, дронта, стеллеровой коровы, сумчатого волка, тарпана, европейского ту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.Сбрасывание в водную среду отходов промышленного производ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Отравление водных беспозвоночных животных и рыб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.Добыча нефти в океане, её переработка и транспортиров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Образование на поверхности воды нефтяной плёнки, приводящей к отравлениям рыбы и гибели водоплавающих птиц от переохлаждения в связи с намоканием загрязненного опер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.Истребление лес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азрушение почв, гибель или отступление лесных животных (глухаря, тетерева и т.д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.Распашка зем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Уход или гибель куропаток, перепелов и других птиц –обитателей открытых пространст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.Осушение бол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азрушение среды обитания уток, гусей, куликов, прудовых лягушек. Перечисленные животные не находят благоприятных условий для размноже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2"/>
          <p:cNvSpPr/>
          <p:nvPr/>
        </p:nvSpPr>
        <p:spPr>
          <a:xfrm>
            <a:off x="1187280" y="1844640"/>
            <a:ext cx="662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Times New Roman"/>
              </a:rPr>
              <a:t>в 7 классе «ФАКТОРЫ СРЕДЫ И ИХ ВЛИЯНИЕ НА БИОЦЕНОЗЫ»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692360" y="1628640"/>
            <a:ext cx="5616360" cy="505080"/>
          </a:xfrm>
          <a:prstGeom prst="rect">
            <a:avLst/>
          </a:prstGeom>
          <a:solidFill>
            <a:srgbClr val="00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источники загрязн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7740720" y="907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айд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324000" y="2349360"/>
            <a:ext cx="230328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Тепловые электростан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6516720" y="2349360"/>
            <a:ext cx="237492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Автомобильный транспор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11"/>
          <p:cNvSpPr/>
          <p:nvPr/>
        </p:nvSpPr>
        <p:spPr>
          <a:xfrm>
            <a:off x="1187280" y="1844640"/>
            <a:ext cx="0" cy="504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Line 12"/>
          <p:cNvSpPr/>
          <p:nvPr/>
        </p:nvSpPr>
        <p:spPr>
          <a:xfrm>
            <a:off x="7812000" y="1844640"/>
            <a:ext cx="0" cy="504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14"/>
          <p:cNvSpPr/>
          <p:nvPr/>
        </p:nvSpPr>
        <p:spPr>
          <a:xfrm>
            <a:off x="3419640" y="2349360"/>
            <a:ext cx="223200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Металлургические комбина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4427640" y="2133720"/>
            <a:ext cx="0" cy="287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17"/>
          <p:cNvSpPr/>
          <p:nvPr/>
        </p:nvSpPr>
        <p:spPr>
          <a:xfrm>
            <a:off x="1763640" y="3213000"/>
            <a:ext cx="237672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Текстильные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4643280" y="3213000"/>
            <a:ext cx="251964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cc"/>
                </a:solidFill>
                <a:latin typeface="Times New Roman"/>
              </a:rPr>
              <a:t>Предприятия по изготовлению резины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20"/>
          <p:cNvSpPr/>
          <p:nvPr/>
        </p:nvSpPr>
        <p:spPr>
          <a:xfrm>
            <a:off x="3059280" y="2133720"/>
            <a:ext cx="0" cy="1079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21"/>
          <p:cNvSpPr/>
          <p:nvPr/>
        </p:nvSpPr>
        <p:spPr>
          <a:xfrm>
            <a:off x="4427640" y="3141720"/>
            <a:ext cx="0" cy="12240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22"/>
          <p:cNvSpPr/>
          <p:nvPr/>
        </p:nvSpPr>
        <p:spPr>
          <a:xfrm>
            <a:off x="6084720" y="2133720"/>
            <a:ext cx="0" cy="1079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23"/>
          <p:cNvSpPr/>
          <p:nvPr/>
        </p:nvSpPr>
        <p:spPr>
          <a:xfrm>
            <a:off x="7812000" y="3141720"/>
            <a:ext cx="0" cy="1079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51"/>
          <p:cNvSpPr/>
          <p:nvPr/>
        </p:nvSpPr>
        <p:spPr>
          <a:xfrm>
            <a:off x="1187280" y="4221000"/>
            <a:ext cx="662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1187280" y="3141720"/>
            <a:ext cx="0" cy="1079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53"/>
          <p:cNvSpPr/>
          <p:nvPr/>
        </p:nvSpPr>
        <p:spPr>
          <a:xfrm>
            <a:off x="468360" y="4365720"/>
            <a:ext cx="8064360" cy="863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  а  г  р  я  з  н  и  т  е  л  и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ыль, зола, сажа, оксиды азота, серы, мышьяка, углерода, руть, сероводород, аммиак, хлопковая пыль, органические растворите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Rectangle 54"/>
          <p:cNvSpPr/>
          <p:nvPr/>
        </p:nvSpPr>
        <p:spPr>
          <a:xfrm>
            <a:off x="395280" y="5516640"/>
            <a:ext cx="820908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л и я н и е   н а  з д о р о в ь е  ч е л о в е к 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отравление организма, поражение дыхательных путей, злокачественные опухоли, понижение иммунитета, поражение нервной системы, нарушение процесса кроветворения, аритмии и другие заболевания сердц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55"/>
          <p:cNvSpPr/>
          <p:nvPr/>
        </p:nvSpPr>
        <p:spPr>
          <a:xfrm>
            <a:off x="4427640" y="5229360"/>
            <a:ext cx="0" cy="288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56"/>
          <p:cNvSpPr/>
          <p:nvPr/>
        </p:nvSpPr>
        <p:spPr>
          <a:xfrm>
            <a:off x="755640" y="1197000"/>
            <a:ext cx="78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ияние загрязнения среды на организм челове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2:34:52Z</dcterms:created>
  <dc:creator>Администратор</dc:creator>
  <dc:description/>
  <dc:language>en-US</dc:language>
  <cp:lastModifiedBy>user</cp:lastModifiedBy>
  <dcterms:modified xsi:type="dcterms:W3CDTF">2019-04-14T06:06:33Z</dcterms:modified>
  <cp:revision>22</cp:revision>
  <dc:subject/>
  <dc:title>УРОК-ПРЕЗЕНТАЦИЯ в 7 классе «ФАКТОРЫ СРЕДЫ И ИХ ВЛИЯНИЕ НА БИОЦЕНОЗЫ» </dc:title>
</cp:coreProperties>
</file>