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D8C-E0EE-4EFC-8404-F13C9064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964-B0F5-41EE-8B9D-8D5B67D1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774-7518-44BD-8590-919AC688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C6A-0017-42CE-BD60-5FA7A038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4A8-11CB-45BD-82DB-78459413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ACA-23F9-4F24-875E-FB3634A3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877-1485-4210-9900-3F8D79D4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BA3-3FC1-4785-A713-37ECA9C3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5B7-A38D-4936-B798-2395AFA9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E55-A3AB-4AA1-B9FE-8CBE0C32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38A-0729-488C-BEC3-423EC8A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0D4-64D8-4D91-BD5C-70E1259B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D774-214B-4823-B03E-CE55F378E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812880" y="2459160"/>
            <a:ext cx="1056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Цепь питания 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механизм переноса энергии и веществ в пищевых взаимосвязя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1"/>
          <p:cNvSpPr/>
          <p:nvPr/>
        </p:nvSpPr>
        <p:spPr>
          <a:xfrm>
            <a:off x="1844640" y="682560"/>
            <a:ext cx="8489880" cy="89712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Трофические уровни эко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2"/>
          <p:cNvSpPr/>
          <p:nvPr/>
        </p:nvSpPr>
        <p:spPr>
          <a:xfrm>
            <a:off x="730080" y="3505320"/>
            <a:ext cx="3429000" cy="262080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Продуц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4375080" y="3505320"/>
            <a:ext cx="3429000" cy="262080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Консументы 1-го поря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8032680" y="3505320"/>
            <a:ext cx="3429000" cy="262080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Консументы 2-го и следующих поряд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8"/>
          <p:cNvCxnSpPr/>
          <p:nvPr/>
        </p:nvCxnSpPr>
        <p:spPr>
          <a:xfrm flipH="1">
            <a:off x="2996640" y="1890360"/>
            <a:ext cx="2462760" cy="121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Прямая со стрелкой 11"/>
          <p:cNvCxnSpPr/>
          <p:nvPr/>
        </p:nvCxnSpPr>
        <p:spPr>
          <a:xfrm>
            <a:off x="6089400" y="1890360"/>
            <a:ext cx="1080" cy="1212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14"/>
          <p:cNvCxnSpPr/>
          <p:nvPr/>
        </p:nvCxnSpPr>
        <p:spPr>
          <a:xfrm>
            <a:off x="6721560" y="1890360"/>
            <a:ext cx="2472480" cy="121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0" descr=""/>
          <p:cNvPicPr/>
          <p:nvPr/>
        </p:nvPicPr>
        <p:blipFill>
          <a:blip r:embed="rId1">
            <a:lum bright="70000" contrast="-70000"/>
          </a:blip>
          <a:srcRect l="0" t="7987" r="0" b="798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7552080" y="3508200"/>
            <a:ext cx="330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UI"/>
                <a:ea typeface="Segoe UI"/>
              </a:rPr>
              <a:t>Плодожо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144880" y="3508200"/>
            <a:ext cx="208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UI"/>
                <a:ea typeface="Segoe UI"/>
              </a:rPr>
              <a:t>Си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95280" y="5389560"/>
            <a:ext cx="377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UI"/>
                <a:ea typeface="Segoe UI"/>
              </a:rPr>
              <a:t>Хищная пт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352280" y="5389560"/>
            <a:ext cx="370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UI"/>
                <a:ea typeface="Segoe UI"/>
              </a:rPr>
              <a:t>Жук-мертвое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7251120" y="1566720"/>
            <a:ext cx="39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UI"/>
                <a:ea typeface="Segoe UI"/>
              </a:rPr>
              <a:t>Листья ябло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1162080" y="950760"/>
            <a:ext cx="404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UI"/>
                <a:ea typeface="Segoe UI"/>
              </a:rPr>
              <a:t>Солнце и минеральные эле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трелка вправо 6"/>
          <p:cNvSpPr/>
          <p:nvPr/>
        </p:nvSpPr>
        <p:spPr>
          <a:xfrm>
            <a:off x="5697360" y="1649520"/>
            <a:ext cx="1055880" cy="5428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трелка вправо 14"/>
          <p:cNvSpPr/>
          <p:nvPr/>
        </p:nvSpPr>
        <p:spPr>
          <a:xfrm rot="10800000">
            <a:off x="5438880" y="3591000"/>
            <a:ext cx="1055520" cy="54288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 вправо 15"/>
          <p:cNvSpPr/>
          <p:nvPr/>
        </p:nvSpPr>
        <p:spPr>
          <a:xfrm>
            <a:off x="5697360" y="5472000"/>
            <a:ext cx="1055880" cy="5428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право 17"/>
          <p:cNvSpPr/>
          <p:nvPr/>
        </p:nvSpPr>
        <p:spPr>
          <a:xfrm rot="5400000">
            <a:off x="8674920" y="2709000"/>
            <a:ext cx="1055520" cy="54288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 вправо 18"/>
          <p:cNvSpPr/>
          <p:nvPr/>
        </p:nvSpPr>
        <p:spPr>
          <a:xfrm rot="5400000">
            <a:off x="2656800" y="4590360"/>
            <a:ext cx="1055520" cy="54288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0" y="0"/>
            <a:ext cx="12192120" cy="5205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UI"/>
                <a:ea typeface="Segoe UI"/>
              </a:rPr>
              <a:t>Пищевая цепь с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0" y="0"/>
            <a:ext cx="12192120" cy="5205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UI"/>
                <a:ea typeface="Segoe UI"/>
              </a:rPr>
              <a:t>Расход биомассы в пищевой цеп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2"/>
          <p:cNvSpPr/>
          <p:nvPr/>
        </p:nvSpPr>
        <p:spPr>
          <a:xfrm>
            <a:off x="958680" y="4516560"/>
            <a:ext cx="10274400" cy="8985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Продуц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1576440" y="3535200"/>
            <a:ext cx="9039240" cy="89712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Консументы 1-го поря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2193840" y="2552760"/>
            <a:ext cx="7817040" cy="8967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Консументы 2-го поря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2819520" y="1569960"/>
            <a:ext cx="6565680" cy="8985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Консументы 3-го поря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2274840" y="6121440"/>
            <a:ext cx="161604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Segoe UI"/>
              </a:rPr>
              <a:t>Ч. Эл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971640" y="736560"/>
            <a:ext cx="4222800" cy="538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TextBox 2"/>
          <p:cNvSpPr/>
          <p:nvPr/>
        </p:nvSpPr>
        <p:spPr>
          <a:xfrm>
            <a:off x="6045120" y="2705040"/>
            <a:ext cx="5283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UI"/>
                <a:ea typeface="Segoe UI"/>
              </a:rPr>
              <a:t>В 1927 г. Чарлз Элт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Segoe UI"/>
              </a:rPr>
              <a:t>разработал схему пищевой цепи в виде графических мод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4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12192120" cy="9471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UI"/>
                <a:ea typeface="Segoe UI"/>
              </a:rPr>
              <a:t>Пирамида числен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UI"/>
                <a:ea typeface="Segoe UI"/>
              </a:rPr>
              <a:t>(численность особей на единице площа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2"/>
          <p:cNvSpPr/>
          <p:nvPr/>
        </p:nvSpPr>
        <p:spPr>
          <a:xfrm>
            <a:off x="958680" y="4516560"/>
            <a:ext cx="10274400" cy="8985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40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3"/>
          <p:cNvSpPr/>
          <p:nvPr/>
        </p:nvSpPr>
        <p:spPr>
          <a:xfrm>
            <a:off x="1576440" y="3535200"/>
            <a:ext cx="9039240" cy="89712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3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4"/>
          <p:cNvSpPr/>
          <p:nvPr/>
        </p:nvSpPr>
        <p:spPr>
          <a:xfrm>
            <a:off x="2193840" y="2552760"/>
            <a:ext cx="7817040" cy="8967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5"/>
          <p:cNvSpPr/>
          <p:nvPr/>
        </p:nvSpPr>
        <p:spPr>
          <a:xfrm>
            <a:off x="2819520" y="1569960"/>
            <a:ext cx="6565680" cy="8985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0" y="0"/>
            <a:ext cx="12192120" cy="5205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UI"/>
                <a:ea typeface="Segoe UI"/>
              </a:rPr>
              <a:t>Пирамида биомасс (сухой вес биомассы г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Segoe UI"/>
                <a:ea typeface="Segoe U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Segoe UI"/>
                <a:ea typeface="Segoe U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2"/>
          <p:cNvSpPr/>
          <p:nvPr/>
        </p:nvSpPr>
        <p:spPr>
          <a:xfrm>
            <a:off x="958680" y="4516560"/>
            <a:ext cx="10274400" cy="8985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1500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1576440" y="3535200"/>
            <a:ext cx="9039240" cy="89712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40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2193840" y="2552760"/>
            <a:ext cx="7817040" cy="8967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2819520" y="1569960"/>
            <a:ext cx="6565680" cy="8985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12192120" cy="5205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UI"/>
                <a:ea typeface="Segoe UI"/>
              </a:rPr>
              <a:t>Энергетическая пирамида (Дж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Segoe UI"/>
                <a:ea typeface="Segoe U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Segoe UI"/>
                <a:ea typeface="Segoe UI"/>
              </a:rPr>
              <a:t>/г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2"/>
          <p:cNvSpPr/>
          <p:nvPr/>
        </p:nvSpPr>
        <p:spPr>
          <a:xfrm>
            <a:off x="958680" y="4516560"/>
            <a:ext cx="10274400" cy="8985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10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1576440" y="3535200"/>
            <a:ext cx="9039240" cy="89712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2193840" y="2552760"/>
            <a:ext cx="7817040" cy="8967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2819520" y="1569960"/>
            <a:ext cx="6565680" cy="898560"/>
          </a:xfrm>
          <a:prstGeom prst="roundRect">
            <a:avLst>
              <a:gd name="adj" fmla="val 21796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egoe UI"/>
                <a:ea typeface="Segoe U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09:33:19Z</dcterms:created>
  <dc:creator>Никита Хапанков</dc:creator>
  <dc:description/>
  <dc:language>en-US</dc:language>
  <cp:lastModifiedBy>Admin</cp:lastModifiedBy>
  <dcterms:modified xsi:type="dcterms:W3CDTF">2014-08-20T15:05:42Z</dcterms:modified>
  <cp:revision>19</cp:revision>
  <dc:subject/>
  <dc:title>Презентация PowerPoint</dc:title>
</cp:coreProperties>
</file>