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F3B-1A02-4EDF-843F-172F18F4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51C-22DA-4B6B-B6A6-D7D7980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21A-EF24-4D3A-AB25-147EBDB0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78D-3C58-42BB-A369-97216041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B77-0DD9-491F-8D26-82B9383B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99C-DBFD-4222-9E82-2DE6929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337-5367-419E-93B5-60F92FD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DE7-3D86-4A3C-AE68-8A403EB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A85-9809-49DE-A701-3A9261D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450-5055-4A9C-897B-D5CCDAD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3AC-F931-4605-A394-E2F07AA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23F-90E7-4050-B4FB-724D181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6718-D614-43B9-B108-50A10E0C0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ляющ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самостоятельная творческая завершенная работа учащегося, выполненная под руководством учителя. Она состоит из двух частей: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оретической и практичес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оретической частью проекта явля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актической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нкретная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ежпредметные связ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общаетс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у предназначен про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 чем состоит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его новиз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ведении также даетс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характеристика основных источников получения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фициальных, научных, литературных, библиографически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перечислить используемые в ходе выполнения проекта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борудование и материа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ктуаль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ормулиров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 необходимо перейти к указанию конкрет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зучить..., описать..., установить..., выявить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т.п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ервой главе проекта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(начало исследовани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ассматривается предполагаемая методика и техника его выполнения, приводится краткий обзор литературы и других материалов по теме (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й глав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поисково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обходимо разработать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анк идей и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решению проблемы, рассматриваемой в проекте. Важно дать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бъективную оценк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аждому из предлагаемых вариа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этом можно воспользоваться рядом определенных критер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хнологическая част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еречень этапов, технологическую карт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оторой описывается алгоритм операций с указанием инструментов, материалов и способов об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-й вари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523880"/>
          <a:ext cx="8915400" cy="2362320"/>
        </p:xfrm>
        <a:graphic>
          <a:graphicData uri="http://schemas.openxmlformats.org/drawingml/2006/table">
            <a:tbl>
              <a:tblPr/>
              <a:tblGrid>
                <a:gridCol w="820800"/>
                <a:gridCol w="2455920"/>
                <a:gridCol w="2590560"/>
                <a:gridCol w="304812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ки, 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вариа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471600"/>
                <a:gridCol w="1977840"/>
                <a:gridCol w="1139760"/>
                <a:gridCol w="2814840"/>
                <a:gridCol w="182556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к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необходимо рассмотре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экономическую и экологическую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а. В экономической части представляетс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ый расчет затрат на изгото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ектируемого изделия. Здесь же представляютс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оект рекламы и маркетингово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сследов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е внимание необходимо удел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экологической оценке проек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нованию того, что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держание пояснительной зап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 Титульный л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Оглав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 В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 Главы основной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Библиографический список использованной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 Приложе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озможно с использованием отходов произво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дает возможность повторного использования деталей изделия по окончании срока служ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лав основной части дол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очно соответствовать теме работы и полностью ее раскры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главы должны показать умение сжато, логично и аргументировано излагать материал. 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В некоторых случаях возникает необходимость указать пути продолжения исследования темы, а также конкретные задачи, которые предстоит при этом реш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ключения принято помещ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иблиографический список использованной литератур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включенный в него источник должен иметь отражение в пояснительной записке. Все заимствования должны обязательно иметь подстрочные ссылки, откуда взяты приведенные материалы. Не следует включать в библиографический список работы, которые фактически не были использ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лож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одержанию и форме приложения очень разнообразны. Они могут представлять собой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текст, таблицы, графики, карты, рису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приложение должно начинаться с нового листа (страницы) с указанием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правом верхнем угл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ова "Приложение" и име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атический 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наличии в работе более одного приложения они нумеруются арабскими цифрами (без знака №), например: "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ложение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ложение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аниц, на которых даются приложения, должна бы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квозной и продолжать общую нумерацию основного тек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вязь его с приложениями осуществляется через ссылки, которые употребляются со словом "смотри" (см.), заключаемым вместе с шифром в круглые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 выполня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укописным, машинопис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ом или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 помощью компью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дной стороне листа белой бумаги желательно формата А4 (210 х 297) через два-полтора межстрочных интервала с числом строк на странице не более 40. В каждой строке должно быть не более 60-65 знаков с учетом пробелов между словами. Минимальная высота шрифта 1,8 мм (12 кегел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ллюст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екте должны бы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онумеров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уме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обычно бывает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квоз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через всю работу. Если иллюстрация в проекте единственная, то она не нумеруется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ую иллюстрацию необходимо снабди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дрисуночной подпис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олжна соответствовать ее содержанию и основному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первой страницей пояснительной записки и  заполняется п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хнем поле указывается полное наименование учебного заведения. В среднем дается название проекта без слова "тема" и кавычек. Оно должно быть  по возможности кратким и точным — соответствовать основному содержанию про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сли необходим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ретизировать название  работы, то можно д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заголовок, который должен быть предельно кратк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не превращаться в новое загла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ее указываются фамилия, имя, номер школы и класс проектанта (в именительном падеже). Затем фамилия и инициалы руководителя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ижнем поле указываются место и год выполнения работы (без слова "год"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 следует писать или печатать, соблюдая следующие размеры п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вое — не менее 3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е — не менее 1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хнее — не менее 15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жнее — не менее 20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ём приводятся все заголовки пояснительной записки и указываются страницы, на которых они находятся. Сокращать их или давать в другой формулировке, последовательности и соподчиненности нельз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458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е заголовки пишутся с прописной буквы и без точки в конце. 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обосновывает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туальн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анной темы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це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одержание поставленных задач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ируются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планируемый результат и основные проблемы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матриваемые в проект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</cp:lastModifiedBy>
  <dcterms:modified xsi:type="dcterms:W3CDTF">2020-05-12T14:07:1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