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409-7C1B-448A-B70C-C005B4E8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700-614D-415A-A172-0CC644D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A7C-C1F8-4465-8D75-ADCDEDF0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CD8-3455-40B9-ACA7-EE55A7F7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60E0-4AA5-4321-8D3A-6AD2CF23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0527-5572-4498-AAF7-1F7E7BBC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156-9CAA-411D-9ECA-3C7B6C5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E409-DD95-4011-A776-4BFD822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F89D-7D82-47E6-AF13-8E090B9B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DA42-F43F-4AA3-87FE-42A14D55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FB19-FC99-45D9-8F7C-CCD7969D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5BB-6EC7-45A6-86C1-4816D33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E235-EDAF-47A5-94F8-38BBBF8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26BD-8F63-4045-AD73-E4F4A97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F451-C469-4649-A65C-0517F84E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486-315C-4F50-8F32-C64849E1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4CA-00E9-4BC9-A318-21B72386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29B-E16A-4C2D-B878-55EB4E40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B74-7368-4789-9CA1-079CE22C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343-CA38-4181-BDCF-DF69EE71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77C-FD24-4FFD-B7C4-A97BF7AB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EB0-CBC2-4170-ACDE-BB41678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606-A10C-40D6-817A-60DA876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25B-F58B-4896-BFC1-C863503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F23-4009-4E53-93CD-22F5077FDE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1360" y="62640"/>
              <a:ext cx="3638880" cy="6148800"/>
              <a:chOff x="5391360" y="62640"/>
              <a:chExt cx="3638880" cy="6148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080" y="347760"/>
                <a:ext cx="2117160" cy="2358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4560" y="197244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0920" y="259164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6280" y="2656800"/>
                <a:ext cx="16380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200" y="12448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2000" y="2947680"/>
                <a:ext cx="523800" cy="32698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12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9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6680" y="4532040"/>
              <a:ext cx="56232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900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1440" y="5195880"/>
              <a:ext cx="17611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5480" y="1033200"/>
              <a:ext cx="1016280" cy="1262880"/>
              <a:chOff x="4155480" y="1033200"/>
              <a:chExt cx="1016280" cy="126288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0920" y="1071000"/>
                <a:ext cx="285840" cy="379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5160" y="160416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5520" y="19623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440" y="266400"/>
              <a:ext cx="894240" cy="826200"/>
              <a:chOff x="5644440" y="266400"/>
              <a:chExt cx="89424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400" y="761760"/>
                <a:ext cx="178560" cy="362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280" y="441000"/>
                <a:ext cx="306000" cy="301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366480"/>
                <a:ext cx="320040" cy="153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5560"/>
              <a:ext cx="1059840" cy="831240"/>
              <a:chOff x="969840" y="5245560"/>
              <a:chExt cx="105984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10160"/>
                <a:ext cx="25128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22200"/>
                <a:ext cx="43020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0120"/>
                <a:ext cx="44964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6160"/>
              <a:ext cx="1692000" cy="1146600"/>
              <a:chOff x="376200" y="41616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46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200" y="559440"/>
                <a:ext cx="60840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352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22840" y="3711960"/>
              <a:ext cx="1157400" cy="1608480"/>
              <a:chOff x="7422840" y="3711960"/>
              <a:chExt cx="115740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7560" y="4756680"/>
                <a:ext cx="35604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8640" y="4455720"/>
                <a:ext cx="60912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21920" y="3781080"/>
                <a:ext cx="63684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4280" y="3240"/>
              <a:ext cx="13698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0080" y="160560"/>
              <a:ext cx="10821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3760" y="1361160"/>
              <a:ext cx="52416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44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72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3840" y="1964520"/>
              <a:ext cx="62460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57B1-0A12-4D1E-B342-0EF23687F16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Оформление пояснительной записки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творческого проект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066680" y="3733920"/>
            <a:ext cx="756936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Методические рекомендации подготовил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итель технолог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380880" y="144360"/>
            <a:ext cx="838224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ведени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сновная часть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 РАЗДЕЛ  Подготовитель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1. Выбор и обоснование темы………………………….......……....…………….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2. Выбор и обоснование объекта проектирования…………………...…………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3. Сбор и обработка информации………….</a:t>
            </a:r>
            <a:r>
              <a:rPr b="0" lang="ru-RU" sz="1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……………………………………..5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4. Исследование и развитие идеи, исторические сведения</a:t>
            </a:r>
            <a:r>
              <a:rPr b="0" lang="ru-RU" sz="1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...............................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5. Основные  проблемы  при выполнении проекта (звёздочка      обдумывания)…………………………………………………………………………..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  РАЗДЕЛ  Конструкторск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1. Выбор и анализ нескольких идей проекта……………………………………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2. Банк идей............................................................................................................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3. Выбор идеи и её проработка............................................................................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 РАЗДЕЛ  Технологическ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1. План работы над проектом……………………………….…….….….………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2. Подбор необходимых материалов и инструментов.......................................9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3. Технология изготовления изделия ………………………………..…….......10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4. Организация рабочего места………………………………………………...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5. Культура труда (правила безопасной работы)…………………………..….1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6. Контроль качества……………………………………………...……………..1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  РАЗДЕЛ   Заключитель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1. Эколого-экономическое обоснование проекта..............................................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2. Самооценка.......................................................................................................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3. Рекламный проспект………………………………………………………….1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аключ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иложени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ведени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762120" y="1371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0" y="7621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нем обосновывается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актуальность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бранной те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Актуальность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— обязательное требование к любой проектной работе. Обоснование ее включает оценку значимости проекта и предполагаемых результатов, раскрываются возможности их использования на практ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Цель</a:t>
            </a:r>
            <a:r>
              <a:rPr b="1" lang="ru-RU" sz="1800" spc="-1" strike="noStrike">
                <a:solidFill>
                  <a:srgbClr val="004a7b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4a7b"/>
                </a:solidFill>
                <a:latin typeface="Verdana"/>
              </a:rPr>
              <a:t>и</a:t>
            </a:r>
            <a:r>
              <a:rPr b="1" lang="ru-RU" sz="1800" spc="-1" strike="noStrike">
                <a:solidFill>
                  <a:srgbClr val="004a7b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содержание поставленных задач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 формулировки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цели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проекта необходимо перейти к указанию конкретных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адач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, которые предстоит решать в соответствии с ней. Это обычно делается в форме перечисления (</a:t>
            </a:r>
            <a:r>
              <a:rPr b="1" lang="ru-RU" sz="1800" spc="-1" strike="noStrike">
                <a:solidFill>
                  <a:srgbClr val="004a7b"/>
                </a:solidFill>
                <a:latin typeface="Verdana"/>
              </a:rPr>
              <a:t>изучить..., описать..., установить..., выявить...</a:t>
            </a:r>
            <a:r>
              <a:rPr b="0" lang="ru-RU" sz="1800" spc="-1" strike="noStrike">
                <a:solidFill>
                  <a:srgbClr val="004a7b"/>
                </a:solidFill>
                <a:latin typeface="Verdana"/>
              </a:rPr>
              <a:t> и т.п.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рмулируются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планируемый результат и основные проблемы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ассматриваемые  работ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общается,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кому предназначен проект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и в чем состоит </a:t>
            </a: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его новизна</a:t>
            </a:r>
            <a:r>
              <a:rPr b="0" i="1" lang="ru-RU" sz="1800" spc="-1" strike="noStrike">
                <a:solidFill>
                  <a:srgbClr val="004a7b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 введении также </a:t>
            </a:r>
            <a:r>
              <a:rPr b="0" lang="ru-RU" sz="1800" spc="-1" strike="noStrike">
                <a:solidFill>
                  <a:srgbClr val="004a7b"/>
                </a:solidFill>
                <a:latin typeface="Verdana"/>
              </a:rPr>
              <a:t>дается </a:t>
            </a:r>
            <a:r>
              <a:rPr b="1" i="1" lang="ru-RU" sz="1800" spc="-1" strike="noStrike">
                <a:solidFill>
                  <a:srgbClr val="004a7b"/>
                </a:solidFill>
                <a:latin typeface="Verdana"/>
              </a:rPr>
              <a:t>характеристика основных источников получения информации</a:t>
            </a:r>
            <a:r>
              <a:rPr b="0" lang="ru-RU" sz="1800" spc="-1" strike="noStrike">
                <a:solidFill>
                  <a:srgbClr val="004a7b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официальных, научных, литературных, библиографических)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имер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6320"/>
            <a:ext cx="8915400" cy="69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Листая страницы  сайта «Страна мастеров», я увидела интересные работы, выполненные в технике плетения макраме. Оказывается, в этой технике плетения выполняется огромное количество различных работ для дома, офиса, для декоративного оформления интерьера гостиниц, ресторанов и т.д. Мне очень понравились эти работы. Я решила научиться плести такие изделия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Кроме этого мне стало интересно: когда и почему у людей возникла потребность в плетении? Вот поэтому, для того, чтобы ответить на эти и на многое другие вопросы, я начала работу с поиска информации о истории возникновения данной техники декоративного творчеств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Цель исследования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зучение истории возникновения и технологии плетения макра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адачи исследования: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анализировать литературу, в которой рассказывается об истории возникновения техники макрам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зучить технологию плетения макрам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анализировать результаты исследован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полнить несколько работ для украшения своей комнаты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плетени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техника макрам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попробуем предложить, данная техника возникла потому, что она была необходима человеку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его повседневной жизн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нализ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блюдение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нкетирование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равнение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6699"/>
              </a:buClr>
              <a:buFont typeface="Times New Roman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бобщени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сновная ча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0" y="266688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первой главе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екта </a:t>
            </a:r>
            <a:r>
              <a:rPr b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(начало исследования)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ссматривается предполагаемая методика и техника его выполнения, приводится краткий обзор литературы и других материалов по 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теме (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исторические сведения, современное состояние, анализ рынка, звездочка обдумывания и др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.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0" y="4648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следующей главе </a:t>
            </a:r>
            <a:r>
              <a:rPr b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(поисковой)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еобходимо разработать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банк идей и предложений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по решению проблемы, рассматриваемой в проекте. Важно дать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объективную оценку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каждому из предлагаемых вариантов</a:t>
            </a: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, при этом можно воспользоваться рядом определенных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ритерие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0" y="6858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73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4d73"/>
                </a:solidFill>
                <a:latin typeface="Verdana"/>
              </a:rPr>
              <a:t>Содержание глав основной части должно</a:t>
            </a:r>
            <a:r>
              <a:rPr b="1" lang="ru-RU" sz="1800" spc="-1" strike="noStrike">
                <a:solidFill>
                  <a:srgbClr val="004d73"/>
                </a:solidFill>
                <a:latin typeface="Verdana"/>
              </a:rPr>
              <a:t> точно соответствовать теме работы и полностью ее раскрывать. </a:t>
            </a:r>
            <a:r>
              <a:rPr b="0" lang="ru-RU" sz="1800" spc="-1" strike="noStrike">
                <a:solidFill>
                  <a:srgbClr val="004d73"/>
                </a:solidFill>
                <a:latin typeface="Verdana"/>
              </a:rPr>
              <a:t>Эти главы должны показать умение сжато, логично и аргументировано излагать материал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73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4d73"/>
                </a:solidFill>
                <a:latin typeface="Verdana"/>
              </a:rPr>
              <a:t>Не злоупотреблять перепечаткой или копированием информации из различных источников.  Обязательно делать выводы о том, как эта информация пригодилась проектанту в работ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03320"/>
            <a:ext cx="883908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Технологическая часть проект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0" y="106668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ней необходимо разработать последовательность выполнения объекта. Она может включать в себя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перечень этапов, технологическую карту</a:t>
            </a:r>
            <a:r>
              <a:rPr b="0" lang="ru-RU" sz="2400" spc="-1" strike="noStrike">
                <a:solidFill>
                  <a:srgbClr val="71c6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которой описывается алгоритм операций с указанием инструментов, материалов и способов обработк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ехнологическая карт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4038480"/>
          <a:ext cx="8915400" cy="1676520"/>
        </p:xfrm>
        <a:graphic>
          <a:graphicData uri="http://schemas.openxmlformats.org/drawingml/2006/table">
            <a:tbl>
              <a:tblPr/>
              <a:tblGrid>
                <a:gridCol w="1295280"/>
                <a:gridCol w="2194200"/>
                <a:gridCol w="2179440"/>
                <a:gridCol w="32464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борудование,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нструменты,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испособления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62080" y="5257800"/>
          <a:ext cx="8881920" cy="365040"/>
        </p:xfrm>
        <a:graphic>
          <a:graphicData uri="http://schemas.openxmlformats.org/drawingml/2006/table">
            <a:tbl>
              <a:tblPr/>
              <a:tblGrid>
                <a:gridCol w="8881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228600" y="685800"/>
            <a:ext cx="89154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едставляется полный расчет затрат на изготовление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проектируемого изделия. Затем представляются </a:t>
            </a:r>
            <a:r>
              <a:rPr b="1" i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оект рекламы и маркетинговое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исследование.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Результатом экономического расчета должно быть обоснование экономичности проектируемого изделия и наличия рынка сбыт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0" y="2895480"/>
            <a:ext cx="914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Необходимо обосновать то, что: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а) изготовление и эксплуатация проектируемого изделия не повлекут за собой изменений в окружающей среде, нарушений в жизнедеятельности челове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б) для выполнения изделия возможно использовать отходы производств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) есть возможность повторно использовать детали изделия по окончании срока служб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0" y="2286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Экономическая и экологическая оценка</a:t>
            </a:r>
            <a:r>
              <a:rPr b="0" lang="ru-RU" sz="32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проек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3680" y="236232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Экологическая оценка проект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533520" y="172080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 нем последовательно излагаются полученные результаты, определяется их соотношение с общей целью и конкретными задачами, сформулированными во введении, дается самооценка учащимся проделанной им работы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 некоторых случаях возникает необходимость указать пути продолжения исследования темы, а также конкретные задачи, которые предстоит при этом реш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исок литератур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сточники   в   списке   использованной   литературы   позиционируются   в   алфавитном порядке по первой букве фамилии (но не инициалов!) автор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тем название источника информ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альше пишется название издательства , год и страниц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имер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исок используемой литерату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Рыбаков. А. Роман-воспоминание - М.: Вагриус, 200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Саванжа. Л  и  Хохряков Е.  очерки   «Истоки»- газета «Путь  Ильича» № 61-66 1988 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Селезнева В.  очерки «Окно в прошлое» -  «Путь Ильича», 1990 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380880" y="38098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Каждое приложение должно начинаться с нового листа (страницы) с указанием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 правом верхнем углу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слова "Приложение" и иметь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тематический заголовок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и наличии в работе более одного приложения они нумеруются арабскими цифрами (без знака №), например: "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иложение 1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",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иложение 2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" и т.д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304920" y="11430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73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спомогательные или дополнительные материалы, которые загромождают основную часть работы, помещают в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иложениях.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о содержанию и форме приложения очень разнообразны. Они могут представлять собой </a:t>
            </a:r>
            <a:r>
              <a:rPr b="1" i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текст, таблицы, графики, карты, рисун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1447920" y="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иложени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оставляющие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0" y="8380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ворческий проект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– самостоятельная творческая завершённая работа, выполненная под руководством учител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Цель выполнения проекта: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довлетворение потребностей, приобретение опыта творческой деятель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на состоит из </a:t>
            </a:r>
            <a:r>
              <a:rPr b="1" lang="ru-RU" sz="32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теоретической и практической части.</a:t>
            </a:r>
            <a:r>
              <a:rPr b="0" lang="ru-RU" sz="32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еоретической частью проекта является </a:t>
            </a:r>
            <a:r>
              <a:rPr b="1" lang="ru-RU" sz="32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пояснительная записка.</a:t>
            </a:r>
            <a:r>
              <a:rPr b="0" lang="ru-RU" sz="32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актической - </a:t>
            </a:r>
            <a:r>
              <a:rPr b="1" lang="ru-RU" sz="32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модель, изделие макет, видеофильм</a:t>
            </a:r>
            <a:r>
              <a:rPr b="0" lang="ru-RU" sz="32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 т.п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крепление лист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бота должна быть надлежащим образом скреплена по левой стороне листа или оформлена в мультифоры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то предполагает, что при многократном обращении к ней, она должна сохранять свою целостность, то есть не рассыпаться на отдельные листы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ставные части пояснительной записки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609480" y="2286000"/>
            <a:ext cx="769644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Титульный лист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Оглавлени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 Введени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Главы основной части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. Заключени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6. Список литературы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. Приложения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Работа выполняется на стандартных листах формата А4 (210 на 297 мм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Ориентация текста книжная (лист располагается вертикально)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екст наносится постранично только с одной стороны лист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двустороннее расположение текста на листе недопустим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600200" y="2286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Формат листа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Нумерация страни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Титульный лист считается первой страницей, но номер «1» на нем не проставляет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а второй странице располагается «Оглавление» (план работы). Этот лист тоже не нумеруетс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 «Оглавлении» все заголовки пишутся с прописной буквы и без точки в конц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следнее слово каждого заголовка соединяют отточием с соответствующим ему номером страницы в правом столбце оглавл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зиционирование номера страницы на листе осуществляется по усмотрению автора: либо от центра вверху или внизу страницы, либо в правом верхнем или нижнем углу страниц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02960"/>
            <a:ext cx="84582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Нумерация страниц и иллюстраци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акие разделы работы как «Введение»,  «Основная часть», «Заключение», «Список литературы» и «Приложения» приводятся в Оглавлении, но не нумеруютс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умерации подлежат только разделы, относящиеся к основной части работы, то есть главы и параграф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0" y="3886200"/>
            <a:ext cx="9144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се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иллюстрации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в проекте должны быть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ронумерованы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Нумерация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их обычно бывает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сквозной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, т.е. через всю работу. Если иллюстрация в проекте единственная, то она не нумеруетс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В тексте на иллюстрации делаются ссылки, содержащие их порядковые номера (рис. 1, рис. 2 и т.д.).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Каждую иллюстрацию необходимо снабдить </a:t>
            </a:r>
            <a:r>
              <a:rPr b="1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подрисуночной подписью</a:t>
            </a:r>
            <a:r>
              <a:rPr b="0" lang="ru-RU" sz="2400" spc="-1" strike="noStrike">
                <a:solidFill>
                  <a:srgbClr val="004d73"/>
                </a:solidFill>
                <a:latin typeface="Times New Roman"/>
                <a:ea typeface="Times New Roman"/>
              </a:rPr>
              <a:t>, которая должна соответствовать ее содержанию и основному текст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рифт написа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Поля и отступы текст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- левое поле 20 мм плюс отступ на переплет 10 мм (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всего 30 мм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- правое поле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15 м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- верхнее и нижнее поля по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20 м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Основной текст печатается шрифтом </a:t>
            </a:r>
            <a:r>
              <a:rPr b="1" lang="en-US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Times New Roma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14-го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размера через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1.5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(полтора) интервала и выравнивается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по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ширин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каждая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глава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заключение, список литературы, приложения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должны начинаться с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новой страниц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расстояние между заголовком и текстом должно быть равно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двум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интервалам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(делается пропуск строки при помощи клавиши </a:t>
            </a:r>
            <a:r>
              <a:rPr b="0" i="1" lang="en-US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Enter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все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заголовки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пишутся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жирным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 шрифт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a7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красная строка выполняется из </a:t>
            </a:r>
            <a:r>
              <a:rPr b="1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5 пробелов </a:t>
            </a:r>
            <a:r>
              <a:rPr b="0" i="1" lang="ru-RU" sz="2400" spc="-1" strike="noStrike">
                <a:solidFill>
                  <a:srgbClr val="004a7b"/>
                </a:solidFill>
                <a:latin typeface="Times New Roman"/>
                <a:ea typeface="Times New Roman"/>
              </a:rPr>
              <a:t>при помощи клавиши пробе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4ee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аименование образовательного учрежде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азвание темы (</a:t>
            </a:r>
            <a:r>
              <a:rPr b="1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звание проекта без слова "тема" и кавычек. Оно должно быть  по возможности кратким и точным — соответствовать основному содержанию проекта)</a:t>
            </a:r>
            <a:r>
              <a:rPr b="0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класс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фамилия и инициалы обучающегос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фамилия и инициалы научного руководител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аселённый пункт и текущий год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без слова "год").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66"/>
                </a:solidFill>
                <a:latin typeface="Verdana"/>
              </a:rPr>
              <a:t>На титульном листе работы должна содержаться следующая информация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03320"/>
            <a:ext cx="16002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ример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3520" y="0"/>
            <a:ext cx="7162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униципальное образовательное учрежд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Жемчужненская средняя общеобразовательная школа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спользование отходов швейного производст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для изготовления декоративного панно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 технике аппликация из ткан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        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ворческий проект по технологии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ыполнила учащаяся  7 класс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Шелунова Юл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уководитель проект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читель технологи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асильева Н.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олодезный, 201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</cp:lastModifiedBy>
  <dcterms:modified xsi:type="dcterms:W3CDTF">2020-05-12T14:03:0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