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278240" y="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1015524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B8A3B-AF9F-43CF-8AF1-1ABD11C528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061EC-8F4C-4934-A6F2-E50464849A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04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C7BD2-2A1B-45C6-A1F8-27F99BB8BD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2E05F-8F11-440F-853E-DCCD81A346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B24FC-9EEA-495C-BF61-EDB8E758AA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766A0-3561-4964-80A5-01EA1FC14B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49200-EA76-4AB8-BB76-32A1A7370F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FAEEB-FDAB-44F6-81CA-E9A927C4A2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B24E9-9260-4DF6-9EC4-EBC86E90C0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60A2B-B8CD-497A-A508-AD8DEAC915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57B32-7B02-4437-B0A4-946DBACA4F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C03E6-F7A7-4651-B2C1-704904BE19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A9D3A-4698-4052-A8E0-0B16D3D582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5606A-07A1-4B11-BC83-D183968934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910AB-A9F9-4824-8953-156A682F81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7BDD4-4CD5-4C2E-8742-C1ADB5218B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92699-9B83-4C46-AEF2-3E9C350EB6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7C834-B9CA-4B1D-8DE5-78BC93055B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EA162-52F5-4A8A-8161-1356F09465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55830-2FBD-4131-9CD0-2863198EC6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2AE29-B9BB-4ACF-A788-B1DB1F331F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7351F-173B-4EE4-8C3D-6A091EA787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35935-A439-4CA3-A2B4-ED8F0C6C67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FD430-F2AC-47C6-A4F8-A5B70A2DA7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9A6BD-8C87-4B1E-87BF-51CF6D3B9F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EA109-ADC2-4404-B402-221F71B62B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5C9BC-F0EA-4E13-8219-3C6CFEC1F9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CAE3C-F0FE-44FB-A0ED-672EF341BE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E4A01-8D66-4926-B823-98B6A96512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FAEAE-CB18-4675-8991-1DEDC0B508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4DEDF-12B6-488F-B83A-6468F7DAC6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D0E8F-0491-4E8E-94CB-943B0B8E3B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45E7F-0BD1-4180-BD84-0431051497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25587-D63E-4F86-BE5A-6BBEEDC0C6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C6E11-91E6-4160-AF05-B82F716B35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2D6AA-1F87-4D33-831E-787156ECB6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101B5-3D5F-4D15-AC34-61D4778AAB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E0288-583D-4D66-839F-986CDEBD56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AB727-C5DA-4707-A7AF-638FB4288F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4B06-2CAC-4842-8388-D4CE6B383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15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72D6-8947-48D0-B9F9-6156C53E2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18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70400"/>
            <a:ext cx="44218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B71C-A56B-4A19-BC5A-B171DDF20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744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70400"/>
            <a:ext cx="291744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70400"/>
            <a:ext cx="291744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6540-3B54-41BB-A5D1-A916F83196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DDC4-4112-4FEF-9F2C-A7744166D6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B815-88F5-47BD-8DC3-B7B3D510C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E0F1-CDF3-4AD7-BD67-AE434644E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51F0-0057-436E-9691-E30DA2A20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B92E-6AD5-42CC-9677-7CCE24F1E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18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B00A-A974-4DA3-BB57-85FEA3C18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70400"/>
            <a:ext cx="44218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AEA0-CDF2-4296-8A7B-2E6741057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15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B803-0535-4FE3-B326-C8A8FB524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05CDEB-4D89-4B05-B5D9-F096C47EA9A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7000" y="720360"/>
            <a:ext cx="906300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2300dc"/>
                </a:solidFill>
                <a:latin typeface="Arial"/>
              </a:rPr>
              <a:t>Чудесным пусть будет</a:t>
            </a:r>
            <a:br>
              <a:rPr sz="9600"/>
            </a:br>
            <a:r>
              <a:rPr b="1" i="1" lang="ru-RU" sz="9600" spc="-1" strike="noStrike">
                <a:solidFill>
                  <a:srgbClr val="2300dc"/>
                </a:solidFill>
                <a:latin typeface="Arial"/>
              </a:rPr>
              <a:t> у вас</a:t>
            </a:r>
            <a:br>
              <a:rPr sz="9600"/>
            </a:br>
            <a:r>
              <a:rPr b="1" i="1" lang="ru-RU" sz="9600" spc="-1" strike="noStrike">
                <a:solidFill>
                  <a:srgbClr val="2300dc"/>
                </a:solidFill>
                <a:latin typeface="Arial"/>
              </a:rPr>
              <a:t> настрое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576360" y="539640"/>
            <a:ext cx="9144000" cy="655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a5a5e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общего и чем отличаетс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a5a5e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a5a5e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тературная сказка В.И. Дал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a5a5e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a5a5e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Девочка Снегурочка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a5a5e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a5a5e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русской народной сказки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a5a5e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a5a5e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негурочка"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a5a5e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087640" y="755640"/>
            <a:ext cx="216036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Arial"/>
              </a:rPr>
              <a:t>Русская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408720" y="684360"/>
            <a:ext cx="1871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Arial"/>
              </a:rPr>
              <a:t>сказ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392720" y="1332000"/>
            <a:ext cx="19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979640" y="2340000"/>
            <a:ext cx="4140000" cy="1979640"/>
          </a:xfrm>
          <a:prstGeom prst="cloudCallout">
            <a:avLst>
              <a:gd name="adj1" fmla="val 50171"/>
              <a:gd name="adj2" fmla="val 5824"/>
            </a:avLst>
          </a:prstGeom>
          <a:solidFill>
            <a:srgbClr val="ffffff"/>
          </a:solidFill>
          <a:ln w="72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89160" y="2793960"/>
            <a:ext cx="3751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323dc"/>
                </a:solidFill>
                <a:latin typeface="Arial"/>
              </a:rPr>
              <a:t>Снегуроч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160720" y="5580000"/>
            <a:ext cx="41400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032360" y="900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323dc"/>
                </a:solidFill>
                <a:latin typeface="Arial"/>
              </a:rPr>
              <a:t>народ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0" y="5708520"/>
            <a:ext cx="2254320" cy="1285920"/>
          </a:xfrm>
          <a:prstGeom prst="cloudCallout">
            <a:avLst>
              <a:gd name="adj1" fmla="val 50171"/>
              <a:gd name="adj2" fmla="val 5824"/>
            </a:avLst>
          </a:prstGeom>
          <a:solidFill>
            <a:srgbClr val="ffffff"/>
          </a:solidFill>
          <a:ln w="72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368360" y="239760"/>
            <a:ext cx="778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Arial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295280" y="1692360"/>
            <a:ext cx="756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Arial"/>
              </a:rPr>
              <a:t>1. Прочитать сказ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Arial"/>
              </a:rPr>
              <a:t>2. Сочинить другую концовку сказки  «Снегуроч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Arial"/>
              </a:rPr>
              <a:t>3. Дать характеристику Снегурочки – рабочая тетрадь с. уп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6769080" y="140328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503280" y="1835280"/>
            <a:ext cx="2978280" cy="427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3780000" y="360360"/>
            <a:ext cx="2879640" cy="395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1368360" y="6084720"/>
            <a:ext cx="83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 Black"/>
              </a:rPr>
              <a:t>Александр Николаевич Остров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3068640" y="179280"/>
            <a:ext cx="4275000" cy="5545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"/>
          <p:cNvSpPr/>
          <p:nvPr/>
        </p:nvSpPr>
        <p:spPr>
          <a:xfrm>
            <a:off x="792000" y="5724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 Black"/>
              </a:rPr>
              <a:t>Николай  Андрее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Arial Black"/>
              </a:rPr>
              <a:t>Римский - Корса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4968720" y="395280"/>
            <a:ext cx="4502160" cy="6599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879480" y="755640"/>
            <a:ext cx="3067200" cy="4032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44360" y="3851280"/>
            <a:ext cx="4608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 Black"/>
              </a:rPr>
              <a:t>Виктор Михайлович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 Black"/>
              </a:rPr>
              <a:t>Васнец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087640" y="755640"/>
            <a:ext cx="216036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Arial"/>
              </a:rPr>
              <a:t>Русская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408720" y="684360"/>
            <a:ext cx="1871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Arial"/>
              </a:rPr>
              <a:t>сказ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392720" y="1332000"/>
            <a:ext cx="19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979640" y="2340000"/>
            <a:ext cx="4140000" cy="1979640"/>
          </a:xfrm>
          <a:prstGeom prst="cloudCallout">
            <a:avLst>
              <a:gd name="adj1" fmla="val 50171"/>
              <a:gd name="adj2" fmla="val 5824"/>
            </a:avLst>
          </a:prstGeom>
          <a:solidFill>
            <a:srgbClr val="ffffff"/>
          </a:solidFill>
          <a:ln w="72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189160" y="2793960"/>
            <a:ext cx="3751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323dc"/>
                </a:solidFill>
                <a:latin typeface="Arial"/>
              </a:rPr>
              <a:t>Снегуроч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160720" y="5580000"/>
            <a:ext cx="41400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032360" y="900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323dc"/>
                </a:solidFill>
                <a:latin typeface="Arial"/>
              </a:rPr>
              <a:t>народ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0" y="5708520"/>
            <a:ext cx="2254320" cy="1285920"/>
          </a:xfrm>
          <a:prstGeom prst="cloudCallout">
            <a:avLst>
              <a:gd name="adj1" fmla="val 50171"/>
              <a:gd name="adj2" fmla="val 5824"/>
            </a:avLst>
          </a:prstGeom>
          <a:solidFill>
            <a:srgbClr val="ffffff"/>
          </a:solidFill>
          <a:ln w="72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863640" y="826920"/>
            <a:ext cx="8856720" cy="590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2087640" y="755640"/>
            <a:ext cx="216036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Arial"/>
              </a:rPr>
              <a:t>Русская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6408720" y="684360"/>
            <a:ext cx="1871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Arial"/>
              </a:rPr>
              <a:t>сказ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392720" y="1332000"/>
            <a:ext cx="19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897200" y="2136600"/>
            <a:ext cx="4140000" cy="1979640"/>
          </a:xfrm>
          <a:prstGeom prst="cloudCallout">
            <a:avLst>
              <a:gd name="adj1" fmla="val 50171"/>
              <a:gd name="adj2" fmla="val 5824"/>
            </a:avLst>
          </a:prstGeom>
          <a:solidFill>
            <a:srgbClr val="ffffff"/>
          </a:solidFill>
          <a:ln w="72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189160" y="2793960"/>
            <a:ext cx="3751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323dc"/>
                </a:solidFill>
                <a:latin typeface="Arial"/>
              </a:rPr>
              <a:t>Снегуроч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160720" y="5580000"/>
            <a:ext cx="41400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360" y="900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323dc"/>
                </a:solidFill>
                <a:latin typeface="Arial"/>
              </a:rPr>
              <a:t>народ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0" y="5708520"/>
            <a:ext cx="2254320" cy="1285920"/>
          </a:xfrm>
          <a:prstGeom prst="cloudCallout">
            <a:avLst>
              <a:gd name="adj1" fmla="val 50171"/>
              <a:gd name="adj2" fmla="val 5824"/>
            </a:avLst>
          </a:prstGeom>
          <a:solidFill>
            <a:srgbClr val="ffffff"/>
          </a:solidFill>
          <a:ln w="72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reeform 1"/>
          <p:cNvSpPr/>
          <p:nvPr/>
        </p:nvSpPr>
        <p:spPr>
          <a:xfrm rot="1420200">
            <a:off x="3123720" y="4441680"/>
            <a:ext cx="3929040" cy="30258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reeform 2"/>
          <p:cNvSpPr/>
          <p:nvPr/>
        </p:nvSpPr>
        <p:spPr>
          <a:xfrm rot="8358600">
            <a:off x="139320" y="3237840"/>
            <a:ext cx="3643200" cy="31986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reeform 3"/>
          <p:cNvSpPr/>
          <p:nvPr/>
        </p:nvSpPr>
        <p:spPr>
          <a:xfrm rot="20271000">
            <a:off x="6597720" y="4214880"/>
            <a:ext cx="3324240" cy="31892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Freeform 4"/>
          <p:cNvSpPr/>
          <p:nvPr/>
        </p:nvSpPr>
        <p:spPr>
          <a:xfrm rot="20415000">
            <a:off x="5778360" y="1627200"/>
            <a:ext cx="4183200" cy="328608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Freeform 6"/>
          <p:cNvSpPr/>
          <p:nvPr/>
        </p:nvSpPr>
        <p:spPr>
          <a:xfrm>
            <a:off x="254160" y="565200"/>
            <a:ext cx="3429000" cy="314316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Чит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reeform 7"/>
          <p:cNvSpPr/>
          <p:nvPr/>
        </p:nvSpPr>
        <p:spPr>
          <a:xfrm>
            <a:off x="3468600" y="-149400"/>
            <a:ext cx="3929040" cy="32148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Отвеч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а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6540480" y="29224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Arial"/>
              </a:rPr>
              <a:t>Сравнив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оугольник 9"/>
          <p:cNvSpPr/>
          <p:nvPr/>
        </p:nvSpPr>
        <p:spPr>
          <a:xfrm>
            <a:off x="7479000" y="5137200"/>
            <a:ext cx="197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Arial"/>
              </a:rPr>
              <a:t>Бег 100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Arial"/>
              </a:rPr>
              <a:t>мет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3468600" y="55656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Arial"/>
              </a:rPr>
              <a:t>Исследов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1044360" y="4065480"/>
            <a:ext cx="187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ш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087640" y="755640"/>
            <a:ext cx="216036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Arial"/>
              </a:rPr>
              <a:t>Русская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408720" y="684360"/>
            <a:ext cx="1871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Arial"/>
              </a:rPr>
              <a:t>сказ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392720" y="1332000"/>
            <a:ext cx="19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968480" y="2208240"/>
            <a:ext cx="4140360" cy="1979640"/>
          </a:xfrm>
          <a:prstGeom prst="cloudCallout">
            <a:avLst>
              <a:gd name="adj1" fmla="val 50171"/>
              <a:gd name="adj2" fmla="val 5824"/>
            </a:avLst>
          </a:prstGeom>
          <a:solidFill>
            <a:srgbClr val="ffffff"/>
          </a:solidFill>
          <a:ln w="72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189160" y="2793960"/>
            <a:ext cx="3751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323dc"/>
                </a:solidFill>
                <a:latin typeface="Arial"/>
              </a:rPr>
              <a:t>Снегуроч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160720" y="5580000"/>
            <a:ext cx="41400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4032360" y="900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323dc"/>
                </a:solidFill>
                <a:latin typeface="Arial"/>
              </a:rPr>
              <a:t>народ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325440" y="5708520"/>
            <a:ext cx="2254320" cy="1285920"/>
          </a:xfrm>
          <a:prstGeom prst="cloudCallout">
            <a:avLst>
              <a:gd name="adj1" fmla="val 50171"/>
              <a:gd name="adj2" fmla="val 5824"/>
            </a:avLst>
          </a:prstGeom>
          <a:solidFill>
            <a:srgbClr val="ffffff"/>
          </a:solidFill>
          <a:ln w="72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6"/>
          <p:cNvSpPr txBox="1"/>
          <p:nvPr/>
        </p:nvSpPr>
        <p:spPr>
          <a:xfrm>
            <a:off x="576360" y="539640"/>
            <a:ext cx="9144000" cy="655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общего и чем отличаетс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тературная сказка В.И. Дал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Девочка Снегурочка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русской народной сказки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негурочка"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087640" y="755640"/>
            <a:ext cx="216036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Arial"/>
              </a:rPr>
              <a:t>Русская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408720" y="684360"/>
            <a:ext cx="1871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Arial"/>
              </a:rPr>
              <a:t>сказ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392720" y="1332000"/>
            <a:ext cx="19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1979640" y="2340000"/>
            <a:ext cx="4140000" cy="1979640"/>
          </a:xfrm>
          <a:prstGeom prst="cloudCallout">
            <a:avLst>
              <a:gd name="adj1" fmla="val 50171"/>
              <a:gd name="adj2" fmla="val 5824"/>
            </a:avLst>
          </a:prstGeom>
          <a:solidFill>
            <a:srgbClr val="ffffff"/>
          </a:solidFill>
          <a:ln w="72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89160" y="2793960"/>
            <a:ext cx="3751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323dc"/>
                </a:solidFill>
                <a:latin typeface="Arial"/>
              </a:rPr>
              <a:t>Снегуроч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160720" y="5580000"/>
            <a:ext cx="41400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032360" y="900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323dc"/>
                </a:solidFill>
                <a:latin typeface="Arial"/>
              </a:rPr>
              <a:t>народ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0" y="5708520"/>
            <a:ext cx="2254320" cy="1285920"/>
          </a:xfrm>
          <a:prstGeom prst="cloudCallout">
            <a:avLst>
              <a:gd name="adj1" fmla="val 50171"/>
              <a:gd name="adj2" fmla="val 5824"/>
            </a:avLst>
          </a:prstGeom>
          <a:solidFill>
            <a:srgbClr val="ffffff"/>
          </a:solidFill>
          <a:ln w="72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0328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Словарная раб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503280" y="1768320"/>
            <a:ext cx="8497800" cy="26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АФЬЯНОВЫЕ (сапоги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АФЬЯН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онкая мягкая окрашенн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бычно в яркие цвета кож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6624720" y="3851280"/>
            <a:ext cx="2878200" cy="3454560"/>
            <a:chOff x="6624720" y="3851280"/>
            <a:chExt cx="2878200" cy="3454560"/>
          </a:xfrm>
        </p:grpSpPr>
        <p:pic>
          <p:nvPicPr>
            <p:cNvPr id="92" name="Picture 4" descr=""/>
            <p:cNvPicPr/>
            <p:nvPr/>
          </p:nvPicPr>
          <p:blipFill>
            <a:blip r:embed="rId1"/>
            <a:stretch/>
          </p:blipFill>
          <p:spPr>
            <a:xfrm>
              <a:off x="6624720" y="3851280"/>
              <a:ext cx="2878200" cy="34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5"/>
            <p:cNvSpPr/>
            <p:nvPr/>
          </p:nvSpPr>
          <p:spPr>
            <a:xfrm>
              <a:off x="6624720" y="3851280"/>
              <a:ext cx="2878200" cy="34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576360" y="250920"/>
            <a:ext cx="90723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Словарная раб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03280" y="1619280"/>
            <a:ext cx="871380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ТЛАСНА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лента) –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орт шелковой гладкой блестящей тка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7056360" y="3419640"/>
            <a:ext cx="2662200" cy="3768480"/>
            <a:chOff x="7056360" y="3419640"/>
            <a:chExt cx="2662200" cy="3768480"/>
          </a:xfrm>
        </p:grpSpPr>
        <p:pic>
          <p:nvPicPr>
            <p:cNvPr id="97" name="Picture 4" descr=""/>
            <p:cNvPicPr/>
            <p:nvPr/>
          </p:nvPicPr>
          <p:blipFill>
            <a:blip r:embed="rId1"/>
            <a:stretch/>
          </p:blipFill>
          <p:spPr>
            <a:xfrm>
              <a:off x="7056360" y="3419640"/>
              <a:ext cx="2662200" cy="37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5"/>
            <p:cNvSpPr/>
            <p:nvPr/>
          </p:nvSpPr>
          <p:spPr>
            <a:xfrm>
              <a:off x="7056360" y="3419640"/>
              <a:ext cx="2662200" cy="37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087640" y="755640"/>
            <a:ext cx="216036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Arial"/>
              </a:rPr>
              <a:t>Русская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408720" y="684360"/>
            <a:ext cx="1871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Arial"/>
              </a:rPr>
              <a:t>сказ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392720" y="1332000"/>
            <a:ext cx="19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1979640" y="2340000"/>
            <a:ext cx="4140000" cy="1979640"/>
          </a:xfrm>
          <a:prstGeom prst="cloudCallout">
            <a:avLst>
              <a:gd name="adj1" fmla="val 50171"/>
              <a:gd name="adj2" fmla="val 5824"/>
            </a:avLst>
          </a:prstGeom>
          <a:solidFill>
            <a:srgbClr val="ffffff"/>
          </a:solidFill>
          <a:ln w="72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189160" y="2793960"/>
            <a:ext cx="3751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323dc"/>
                </a:solidFill>
                <a:latin typeface="Arial"/>
              </a:rPr>
              <a:t>Снегуроч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160720" y="5580000"/>
            <a:ext cx="41400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032360" y="900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323dc"/>
                </a:solidFill>
                <a:latin typeface="Arial"/>
              </a:rPr>
              <a:t>народ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0" y="5708520"/>
            <a:ext cx="2254320" cy="1285920"/>
          </a:xfrm>
          <a:prstGeom prst="cloudCallout">
            <a:avLst>
              <a:gd name="adj1" fmla="val 50171"/>
              <a:gd name="adj2" fmla="val 5824"/>
            </a:avLst>
          </a:prstGeom>
          <a:solidFill>
            <a:srgbClr val="ffffff"/>
          </a:solidFill>
          <a:ln w="72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7:39:10Z</dcterms:created>
  <dc:creator>ААА</dc:creator>
  <dc:description/>
  <dc:language>en-US</dc:language>
  <cp:lastModifiedBy>Сервер</cp:lastModifiedBy>
  <dcterms:modified xsi:type="dcterms:W3CDTF">2012-11-22T13:35:08Z</dcterms:modified>
  <cp:revision>68</cp:revision>
  <dc:subject/>
  <dc:title>Слайд 1</dc:title>
</cp:coreProperties>
</file>