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996-D927-41B8-B6C9-2B52A312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B7D-F58E-42E2-9FBA-506B6CDB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E9D-FEC6-444F-90BE-772B371C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189-531E-47A8-B5E1-E5D87D16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001-AC9B-4A70-8564-F453DF64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8C5-ABE2-4FB1-BB4D-2A88A3A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322-50DF-4045-A37F-DE629E16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2B2-C482-4D6B-A581-BDA0F63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417-D0DB-42B7-8CDE-4E244E20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D6F-7163-4799-B8EF-DF4921C1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4C4-58CC-4A9C-AAF8-BF7F219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2E3-2ECA-4FD6-A756-E64B705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A3AA-993F-484E-B854-AC9CAB3E0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../&#1055;&#1083;&#1072;&#1082;&#1072;&#1090;.ppt" TargetMode="External"/><Relationship Id="rId3" Type="http://schemas.openxmlformats.org/officeDocument/2006/relationships/slide" Target="slide2.xml"/><Relationship Id="rId4" Type="http://schemas.openxmlformats.org/officeDocument/2006/relationships/hyperlink" Target="file:///../&#1055;&#1083;&#1072;&#1082;&#1072;&#1090;.ppt" TargetMode="Externa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6.xml"/><Relationship Id="rId8" Type="http://schemas.openxmlformats.org/officeDocument/2006/relationships/hyperlink" Target="file:///&#1053;&#1072;&#1088;&#1086;&#1076;&#1099;%20&#1080;%20&#1089;&#1090;&#1088;&#1072;&#1085;&#1099;%20&#1045;&#1074;&#1088;&#1072;&#1079;&#1080;&#1080;.ppt" TargetMode="External"/><Relationship Id="rId9" Type="http://schemas.openxmlformats.org/officeDocument/2006/relationships/hyperlink" Target="file:///&#1084;&#1072;&#1090;&#1077;&#1088;&#1080;&#1072;&#1083;&#1099;/&#1053;&#1072;&#1088;&#1086;&#1076;&#1099;%20&#1080;%20&#1089;&#1090;&#1088;&#1072;&#1085;&#1099;%20&#1045;&#1074;&#1088;&#1072;&#1079;&#1080;&#1080;.ppt" TargetMode="Externa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hyperlink" Target="file:///&#1053;&#1072;&#1088;&#1086;&#1076;&#1099;%20&#1056;&#1086;&#1089;&#1089;&#1080;&#1080;.ppt" TargetMode="Externa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926840" y="38412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7698240" y="4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8155440" y="4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5335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Население и политическая карта Евраз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57200" y="1828800"/>
            <a:ext cx="4572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4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5" action="ppaction://hlinksldjump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6" action="ppaction://hlinksldjump"/>
              </a:rPr>
              <a:t>Закреп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671520" y="1600200"/>
            <a:ext cx="1931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Сравни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562720" y="2057400"/>
            <a:ext cx="3297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8"/>
              </a:rPr>
              <a:t>«Народы и стран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9"/>
              </a:rPr>
              <a:t>Евраз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464800" y="2666880"/>
            <a:ext cx="337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Вопросы по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320800" y="3200400"/>
            <a:ext cx="3608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1" action="ppaction://hlinksldjump"/>
              </a:rPr>
              <a:t>Задание в контурной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012000" y="3809880"/>
            <a:ext cx="1902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2" action="ppaction://hlinksldjump"/>
              </a:rPr>
              <a:t>Анализ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70240" y="4267080"/>
            <a:ext cx="2372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3"/>
              </a:rPr>
              <a:t>«Народы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464800" y="4800600"/>
            <a:ext cx="337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4" action="ppaction://hlinksldjump"/>
              </a:rPr>
              <a:t>Вопросы по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55480" y="5334120"/>
            <a:ext cx="2684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5" action="ppaction://hlinksldjump"/>
              </a:rPr>
              <a:t>Работа с учеб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345360" y="5905440"/>
            <a:ext cx="2320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6" action="ppaction://hlinksldjump"/>
              </a:rPr>
              <a:t>Работа в тет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просы по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Россия – какое государство по количеству на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Назовите запомнившиеся вам народы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А сколько всего народов проживает в нашей стра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кройте учебник на с.303 – карта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На какие регионы принято делить Европ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с.304 – карта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Назовите регионы зарубежной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какие группы можно разделить все страны по географическому полож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бота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вая группа запишет материковые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торая  группа – остр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тья группа – полуостровные (по 6 приме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думай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Какой картой вы пользовались при составлении схе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Какую информацию несёт в себе эта кар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Каким способом она выполн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На какие части света делят страны Евраз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Назовите и покажите самые большие по площади страны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Вспомните самые маленькие страны по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Какое государство имеет самую большую численность насе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дание на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араграф 51, на контурной карте обозначить страны, названия которых встречаются в тексте парагра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Я» - Как чувствовал себя, с каким настроением работал? Доволен ли с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МЫ» - Комфортно ли было работать с одноклассниками, в па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ДЕЛО» - Достиг ли цели учения? Какие затруднения возник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асибо за работу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 желаю вам удачи на весь оставшийся де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384040" y="30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079120" y="38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850520" y="38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0880" y="60948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ема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Население и политическая карта Евраз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04920" y="1905120"/>
            <a:ext cx="4572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4" action="ppaction://hlinksldjump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5" action="ppaction://hlinksldjump"/>
              </a:rPr>
              <a:t>Изучение нов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6" action="ppaction://hlinksldjump"/>
              </a:rPr>
              <a:t>За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124640" y="3848040"/>
            <a:ext cx="2489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7" action="ppaction://hlinksldjump"/>
              </a:rPr>
              <a:t>Подумай и отв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323360" y="4533840"/>
            <a:ext cx="2225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8" action="ppaction://hlinksldjump"/>
              </a:rPr>
              <a:t>Задание на 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337400" y="5372280"/>
            <a:ext cx="157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Рефл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думай и отв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такое ра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62120" y="3109680"/>
            <a:ext cx="7543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са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– это исторически сложившаяся группа людей, выделяемая на основании их родства, единства происхождения, которое проявляется во внешнем сходстве (цвет кожи, глаз, волос, форма черепа, длина тел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j02513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кая легенда о происхождении рас вам  известн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Однажды боги вылепили фигурки людей из глины и положили их в печь обжигать. После обжига они приобрели золотистый оттенок – это были монголоиды. В следующий раз боги заболтались и забыли вовремя вынуть фигурки из печи. Те обуглились и стали черны. Так возникли негры. А потом уже боги, боясь пережечь глиняные статуэтки, вынули их раньше времени, и они получились бледно-розового цвета. Так появились европей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870680" y="6012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137440" y="595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7680240" y="5726160"/>
            <a:ext cx="93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j02513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характеризуй р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тличительными признаками негроидной расы являются курчавые чёрные волосы, тёмно-коричневая кожа и карие глаза. Темнокожесть представителей негроидной расы обусловила и её название (от лат. – Нигер – чёрный). Кроме того, для негроидов характерны очень широкий, но слабо выступающий нос, очень толстые губы, крепкие зубы, умеренно выступающие скулы, слабый или средний рост волос на лице и теле. Нижние и верхние челюсти выдвинуты вперё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юди, относящиеся к европеоидной расе, чаще всего светлокожие, у них прямые, иногда волнистые волосы разных оттенков, довольно светлые глаза – светло-карие, жёлтые, зелёные, серые или голубые. Конечно, встречаются черноволосые, темноглазые и довольно смуглые представители европеоидов, особенно на юге. Для этой расы характерны широко открытые, ровно поставленные глаза. Тонкий прямой, сильно выступающий нос, иногда с горбинкой. Губы у европеоидов тонкие или средней толщины. Типичные черты у мужчин – густые усы и борода. Европеоидов можно разделить на две главные группы: южную – со смуглой кожей, тёмными волосами и карими глазами и северную – со светлой кожей, серыми и голубыми глазами, русыми и белокурыми воло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нголоиды: Волосы у них прямые, иссиня-чёрные, толстые и жёсткие. Широкие лица с сильно выступающими скулами, плоскими, чаще всего расплющенными носами, чёрные или тёмно-карие глаза, смуглая кожа. У мужчин на лицах – редкие усы и борода. Особенно необычно и своеобразно строение глаз монголоидов: они узкие, и внутренние углы их расположены ниже внешних, что создаёт впечатление раскосости. Верхнее веко тяжёлое и набухшее. Не менее своеобразны у монголоидов зубы. Передние резцы – широ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j02513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08652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равнит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кая площадь территории изображена на этих карта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ков масштаб карт? Отличается 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 содержание? -Каким способом изображаются формы рельефа по физической кар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к показываются страны на политической карте ми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 что вы можете сказать о политической карте Евразии? Откройте эту карту в атлас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физ"/>
          <p:cNvPicPr/>
          <p:nvPr/>
        </p:nvPicPr>
        <p:blipFill>
          <a:blip r:embed="rId1"/>
          <a:stretch/>
        </p:blipFill>
        <p:spPr>
          <a:xfrm>
            <a:off x="922320" y="1600200"/>
            <a:ext cx="310680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пол"/>
          <p:cNvPicPr/>
          <p:nvPr/>
        </p:nvPicPr>
        <p:blipFill>
          <a:blip r:embed="rId2"/>
          <a:stretch/>
        </p:blipFill>
        <p:spPr>
          <a:xfrm>
            <a:off x="914400" y="3938760"/>
            <a:ext cx="3124080" cy="264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j0251301"/>
          <p:cNvPicPr/>
          <p:nvPr/>
        </p:nvPicPr>
        <p:blipFill>
          <a:blip r:embed="rId3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просы по презент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найдите на глобусе и покажите самы5е большие страны по площа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оссия,  Китай,  Инд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покажите «карликовые»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атикан, Сингапур, Андорра,  Мальта,  Сан-Мари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перечислите развитые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пония,  Германия, Франция, Италия, Великобр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покажите страны наименее развит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фганистан, Бангладеш, Бутан, Лаос, Мьян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бозначь в контурной карте стр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оссия,  Китай,  Инд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атикан, Сингапур, Андорра,  Мальта,  Сан-Мари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пония,  Германия, Франция, Италия, Великобр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фганистан, Бангладеш, Бутан, Лаос, Мьян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оанализируй карту наро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Какая территория нанесена на этой кар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Каков масштаб кар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Какие уловные знаки использованы на карте нар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Нас интересует сегодня материк Евразия. Скажите, какие народы населяют центральные части матер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Северные окра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Юг контин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Скажите, а где на материке самая высокая плотность нас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Где находятся районы с низкой плотностью нас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Какой вывод вы можете сделать о размещении населения на материке Евраз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Предположите, что повлияло на такое размещение насе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j0251301"/>
          <p:cNvPicPr/>
          <p:nvPr/>
        </p:nvPicPr>
        <p:blipFill>
          <a:blip r:embed="rId1"/>
          <a:stretch/>
        </p:blipFill>
        <p:spPr>
          <a:xfrm>
            <a:off x="7848720" y="5867280"/>
            <a:ext cx="914400" cy="77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7</cp:lastModifiedBy>
  <dcterms:modified xsi:type="dcterms:W3CDTF">2011-04-12T06:26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