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9.jpeg" ContentType="image/jpeg"/>
  <Override PartName="/ppt/media/image28.png" ContentType="image/png"/>
  <Override PartName="/ppt/media/image16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1F0-0D12-43D1-A1D2-A4C98A4F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C0D-74E9-4F89-B43C-45E1B2EC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D1A7C-CAAF-4E57-9880-F8D04C07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509BC-8991-403C-8B93-ECEB700D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3D076-C5E1-49BB-9059-ADFED43F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ECFA8-CCC9-4F61-80BB-AB790AEB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72A7F-AC05-4700-92F4-066616C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25B68-EC71-4322-AA11-E368EBEE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617A6-6E6D-408A-902C-4077C7F6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CF76E-A442-4B9F-B8E5-219BF7EA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54C3A-CA42-48C2-8D28-50C79371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AFA2D-209A-40CB-86B2-915E3B88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B0F-3E26-4492-9F7B-4A73A39C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BFB6C-E620-4E83-88F7-A1625D98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5EAC7-5E6F-4926-8FA4-7669DE20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340F3-7860-4FCB-811E-AB42D443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D3809-41CD-47B9-8A5A-FBA5553F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85A1A-6299-415F-9D76-895FA45E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A0245-D82B-4D80-A4CF-38002C2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DF155-5A39-4DA7-B7FB-29B6CB48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80F9A-1E1A-41D6-9AB3-584D1932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517DB-3A76-4364-92CE-3B8CE786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09E28-3146-4EE4-9104-E87E8947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ED3-87CF-466A-AC61-51C6EBD3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8777C-57CF-4018-A2B0-E2DC3D79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570E8-8B66-477B-82B8-B6AAA098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8E3F0-26FD-457E-9EA7-E47035B3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A1650-76F6-4235-94A5-88B77F0C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D0B16-4062-4A88-A958-5FA8BE00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EB5AB-67A6-46BC-B512-F26F4A2F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31E82-D42E-4656-B7FC-22CA5B5C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99971-EF4F-40E3-A845-B9222743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C088A-0F09-46BE-8840-A8B8E737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72337-9A71-423A-B674-60343BF6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9C69-5599-450A-AA11-09168C1A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6A228-20DA-4235-BC55-9D167545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01B64-8319-4BC5-9225-A8A16733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E5336-E9BC-4E4D-B7AA-E87C9A37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4377A-F3B0-4EA4-93C7-568D79DE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D2E62-42D0-48AF-900D-08E7123E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A61E4-BB03-496A-B064-19404959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5AA82-334C-4208-B94B-4223BE71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C1F78-E934-4FC7-AF74-15C36A63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A56FA-CB01-4E09-A305-C7CB24BD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2E5C9-E0C4-4B8E-B0CE-7F9CB958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F591-0145-4DBB-BA77-D4A20E10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E3F68-22EF-4E6C-A8AC-E13075FF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0F63B-F944-42FC-B8EA-43C02464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ABB24-F1E1-46E8-9F4F-DB5BD147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90A3D-6F19-4BF1-BCA0-994B9EF0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64AB9-CF00-4834-B831-D6C5A7AF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D7BAF-B900-4CD6-B092-8CAB2EB8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C35BF-DAC5-40B0-8345-AAEF5058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CC643-7F2B-4746-88ED-D1C3B30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96D43-A790-4C3B-B8D0-337553A7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F8C7C-6010-4D16-9647-CDAF7437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4058-BD96-4641-B3BD-4E7862C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7C88B-66F2-4328-A2FC-05930E69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4C5B0-F80E-4B2E-A82D-38BA9C9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4A221-084A-4E0B-93FB-6E4BDF45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07E43-E159-44FD-9C0A-D0401E80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10E61-045E-40E3-AEA8-5646F5E3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833D0-B636-40D3-B165-262F9012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46569-36CB-41FE-BE40-C4119C11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BC11F-B8B8-45A0-AACD-11FC5831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D3F87-DE5E-4FCA-B9C9-35DED3C8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17BBE-7F35-4EE3-BB85-0F9CA2B5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DB23-2873-457B-AE58-16DCC08C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5A020-2D3E-4567-916B-182097FD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E2EB6-AE42-47FC-8BEB-563FD80A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EE7F3-9344-4E6A-A00F-37BAF111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C2F19-9179-44C6-8907-014765A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D1E1F-122D-4BC8-8D1E-13DB7BC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F5D06-A5F2-49F3-8194-4C5B9C3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FC08F-4EA3-4B79-89B7-3CD5C7D3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E3856-CB30-4409-914F-7657263F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798B8-1FAF-4999-B04E-8AF0260A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82277-BD2A-4DBD-BBFD-AFFB8471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25BB-8175-4A06-B71B-2D5B562F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E1E46-0A08-4420-AE75-20C56329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0423E-C0C9-4298-94D9-BBA000C1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EC771-EE9F-4F52-8BDF-336B8696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7814B-DF3C-4086-83C1-3B85B929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1D154-8B66-4C82-ADD3-2FA77842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56441-F29B-496C-A1F8-580C018D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BA03D-A3FC-4797-AEBF-6626A43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3A046-4301-4EFE-AFAA-F69902FF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02247-FC67-4E6E-8F8A-A1BE8DC0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90F79-F449-40C6-9ED2-F5337A06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8763-3F51-47DB-BE29-671391D2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6858A-39B5-473A-92F8-D5101FA9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0A6F9-90A9-4FB5-8BFF-C53BC17E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0A5F1-F944-454C-B0E5-4D17D496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0FA52-C6A9-4D1A-AF44-799F8262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B8DD5D-CA72-4802-8B92-40394094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48A3DC-040B-436F-9CBC-983806F0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BC7676-FFDC-4181-A6B7-CE498971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5A7DD-7A89-40E3-B679-57AB327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9DC49-2E80-4175-A46D-85124E4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D0AC7-EFFF-48C7-86E4-F2702964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1294-C13B-4DF1-8B9B-8AEA6EB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F4285-05EC-403F-B929-C1156BEE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719D5-062C-43EC-B829-E6EBF477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99F59-EEF6-4F68-B79D-C8232B09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A1775C-3247-41F8-BBA1-4EC1377A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57C3C2-3D6B-44E1-A723-0049021B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2B230C-79EB-489F-AEEE-48CAC657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396E88-29C8-448C-B192-3BAD4513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D894C3-48BA-4C35-A7A8-45391818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4A7943-CC84-4075-8A64-2A7484BD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E6872C-F780-4BB3-9EAF-602E200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5C9-77A3-43CB-A424-A08E4544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175E-0A63-47D8-8C58-72BB8F8A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A98CDB-7351-49FE-B019-8C812068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16EE4A-94C3-45FD-95CD-BFB44726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D8F7E8-4F81-4E0C-974E-F3E742DA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3ECD51-C21D-4D82-8024-209AD644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2507B6-03F2-4384-B33F-1F56463C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740A-F6CB-49C1-AEC4-35AA4A43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7145-1DDA-4BDA-B900-379D4BAB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E465-35D3-4A37-A4D7-F5D0B87B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454E-99C4-4454-A8D9-D8C520EF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5BE7B-EB3F-40B7-9A1A-0029796A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5DC36-5B96-457A-AAFC-15C1EECF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98211-7EA9-49BE-8E30-5D06B12B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84D48-672A-44A0-AF0C-233D367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FFC23-9945-461B-BF34-3A2329E7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EF6-935C-43DB-9F3C-ADD2B172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272DE-BAE3-46B9-8029-30733C0F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5B8E8-CB67-4370-93B9-5D522D9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B0B0A-8AD2-4E5D-A18A-0689DE49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7EFA5-3209-4BD8-A97F-74CA24DA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7CEAE-7715-4856-8567-08B4ACCB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A0209-E921-48BE-85C0-D4EEA6BA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96C4E-0E43-4846-A881-F9AAB229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DE906-E8B1-475C-BF7E-0DD7A22C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889C9-CED9-43DA-9AF5-9767C8D6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3CF1-42D7-415C-94FE-70A8C3E1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FE0-8331-4301-AB84-DA72388A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F7E8-1339-4532-A064-9656A1AE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8860-2DB4-4651-813B-D77E45D7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CA88-399B-4719-B306-50554891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6F23D-47AF-4C6B-AC6F-688A6F72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278E2-6A97-4E96-9C05-B8F5764A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74C4E-1D0D-4513-B346-09A079E0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0692D-DEAF-4D4C-8818-ABFC589E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3E17-C7AB-48CA-A3F0-5C425E5A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BAB0-6081-4B96-931B-B5879580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F1CED-14F4-4399-8968-ADCD675F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A6F-A8C2-46DF-9C9A-372AD7D5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5B31C-94C3-42C8-8A4D-E1295676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F7435-BC02-46BE-9B4E-A5CA9D59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BAC8B0-2384-4413-9D4D-ABD87837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CFF1C-808D-4C84-A200-4540B640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5EA34-AA96-459F-A98D-6031F484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93E4D-6EAE-4A28-B730-91D46DA8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F61FB-F6D4-4635-B170-028F5B9D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C6D22-8E23-4A36-B989-810C0D33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212E0-E0A3-4BF1-995E-ABBEC0F9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83D78-121D-4A63-A50D-148D466A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0E2-7152-498B-BE12-9D9CEC5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23789-9DA9-4D87-8310-948F4761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8B82E-3021-4FEA-B0B3-8CCBB73C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4541E-57AA-428A-B143-9895B8FF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F2CD3-F85E-494D-8DF0-7723006C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2D656-5819-4EA4-86E6-8758CD81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5C139-528B-4AFF-817D-B05344A4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77325-78F5-46DD-BF7A-21AF9E6B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B77C8-84E0-4E20-873E-0D2BA82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F3747-1EA5-4729-A95E-CFD70385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E92E2-1F66-40CB-8D54-38916F1B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EB5-A19C-4CB3-B771-C960F438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C3EFC-6828-4464-BAAE-2EF447CD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1EAEB-7A40-4863-A1A1-53318901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9DC26-5F13-475F-BE0B-15BCEE23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15222-24FF-4156-8129-ABD12AB9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EE107-215E-4A01-8B92-2D9B669F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47BA8-4758-4B85-AE15-AE06D1F7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171A5-EA9F-4918-9CAD-202DA0AE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60233-6DFF-498A-AF2F-EAD9B737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714B6-44F8-4CD0-9F3B-2FDACA6B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58649-1FA8-4A06-8CC9-A04A74F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295-7462-4289-B6BC-607CC79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C496D-6D01-4040-9E8D-141B333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97194-C410-435D-942C-82D1C1C5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A9AFA-2DD2-4447-BE4F-1702DE97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7E690-AB50-47CE-B4CA-E3B5B9E6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2E05F-9B1E-4EF8-B7CA-E2456430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50105-0F0A-4234-9241-9E4E5561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D2330-70F0-4B02-BEC7-D238CAB6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FEE04-9BA3-4896-A146-753FE879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00D91-DB91-4297-B6BA-8C7B9158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DFFC0-96EF-4EB0-8943-DB5A6F52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999-EB9E-4677-B436-EDCEACE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D2E3F-02ED-4645-B54C-627639F1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9356E-186B-423E-86B3-3C1C8B4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F7351-B7AB-4FD8-AEB5-939F05D3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E3349-8585-4D09-8958-56C6C08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51BCB-84F1-4671-BB5B-24FF4ED8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03DE4-81AE-45C3-BD99-FEE70BC2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5D281-934C-40EB-B2CB-D6EB85C1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98857-2353-4E7F-927E-ABD39026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9CC9C-C9B1-436B-A6FF-8E9146E5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F66B3-D548-4B13-B129-868CE4BB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2A8-8682-4BB5-964C-60982F661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0634-F530-4FFE-8D1C-68004E433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0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B56-DA4F-4946-BCF0-0CD092711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58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1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62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5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6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87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2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A193-FC3C-415A-B210-C28361C15FD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7879-B064-4756-B644-B9E16334E4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93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1959-CCF8-4123-8E73-1DA3617902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4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4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4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6557-B766-420C-BFAE-014A2C6108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8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9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4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4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4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406B-6C03-4550-93A3-A3E3389414E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60EA-2B7D-40D0-AEA2-1095CB3A0E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CDB3-CC62-430C-854B-38D772693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F6F7-38E9-4798-B68C-8C30E2D72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42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AB68-EEF0-47F4-B471-592B1194F1B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156F-8832-4BD6-A80E-3B201B0009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26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7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8758-B3FE-453E-952F-407538633B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2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B08A-D233-4F5D-B9BF-C1E02E8080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7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7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7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2BC1-84EE-4A84-BB83-08FA5E0CBA9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7F1E-A82C-4884-BEC5-3521778A3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hyperlink" Target="file:///C:/Documents%20and%20Settings/&#1057;&#1077;&#1088;&#1074;&#1077;&#1088;/&#1056;&#1072;&#1073;&#1086;&#1095;&#1080;&#1081;%20&#1089;&#1090;&#1086;&#1083;/&#1055;&#1051;&#1040;&#1050;&#1040;&#1058;%20&#1064;&#1077;&#1087;&#1090;&#1091;&#1093;&#1080;&#1085;&#1072;%20&#1042;&#1055;/&#1055;&#1083;&#1072;&#1082;&#1072;&#1090;.ppt" TargetMode="External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826920" y="2565000"/>
            <a:ext cx="808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роды и страны Евраз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траны Евразии и их народы отличаются между собой культурой, образом жизни, религиозными взглядами. Велики и хозяйственные различ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Picture 11" descr="ina1"/>
          <p:cNvPicPr/>
          <p:nvPr/>
        </p:nvPicPr>
        <p:blipFill>
          <a:blip r:embed="rId1"/>
          <a:stretch/>
        </p:blipFill>
        <p:spPr>
          <a:xfrm>
            <a:off x="5186520" y="1600200"/>
            <a:ext cx="2806560" cy="213372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2" descr="bir1"/>
          <p:cNvPicPr/>
          <p:nvPr/>
        </p:nvPicPr>
        <p:blipFill>
          <a:blip r:embed="rId2"/>
          <a:stretch/>
        </p:blipFill>
        <p:spPr>
          <a:xfrm>
            <a:off x="1149480" y="3884760"/>
            <a:ext cx="2808000" cy="213516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17" descr="ita6"/>
          <p:cNvPicPr/>
          <p:nvPr/>
        </p:nvPicPr>
        <p:blipFill>
          <a:blip r:embed="rId3"/>
          <a:stretch/>
        </p:blipFill>
        <p:spPr>
          <a:xfrm>
            <a:off x="1150920" y="1600200"/>
            <a:ext cx="2806560" cy="21337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19" descr="fra5"/>
          <p:cNvPicPr/>
          <p:nvPr/>
        </p:nvPicPr>
        <p:blipFill>
          <a:blip r:embed="rId4"/>
          <a:stretch/>
        </p:blipFill>
        <p:spPr>
          <a:xfrm>
            <a:off x="5184720" y="3884760"/>
            <a:ext cx="28083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7" descr="bir3"/>
          <p:cNvPicPr/>
          <p:nvPr/>
        </p:nvPicPr>
        <p:blipFill>
          <a:blip r:embed="rId1"/>
          <a:stretch/>
        </p:blipFill>
        <p:spPr>
          <a:xfrm>
            <a:off x="285840" y="37620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5" descr="chi2"/>
          <p:cNvPicPr/>
          <p:nvPr/>
        </p:nvPicPr>
        <p:blipFill>
          <a:blip r:embed="rId1"/>
          <a:stretch/>
        </p:blipFill>
        <p:spPr>
          <a:xfrm>
            <a:off x="468360" y="12240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5" descr="ger4"/>
          <p:cNvPicPr/>
          <p:nvPr/>
        </p:nvPicPr>
        <p:blipFill>
          <a:blip r:embed="rId1"/>
          <a:stretch/>
        </p:blipFill>
        <p:spPr>
          <a:xfrm>
            <a:off x="468360" y="12240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5" descr="ger7"/>
          <p:cNvPicPr/>
          <p:nvPr/>
        </p:nvPicPr>
        <p:blipFill>
          <a:blip r:embed="rId1"/>
          <a:stretch/>
        </p:blipFill>
        <p:spPr>
          <a:xfrm>
            <a:off x="214200" y="14292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5" descr="gre5"/>
          <p:cNvPicPr/>
          <p:nvPr/>
        </p:nvPicPr>
        <p:blipFill>
          <a:blip r:embed="rId1"/>
          <a:stretch/>
        </p:blipFill>
        <p:spPr>
          <a:xfrm>
            <a:off x="539640" y="176040"/>
            <a:ext cx="8353440" cy="62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5" descr="ina2"/>
          <p:cNvPicPr/>
          <p:nvPr/>
        </p:nvPicPr>
        <p:blipFill>
          <a:blip r:embed="rId1"/>
          <a:stretch/>
        </p:blipFill>
        <p:spPr>
          <a:xfrm>
            <a:off x="428760" y="42876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5" descr="ina3"/>
          <p:cNvPicPr/>
          <p:nvPr/>
        </p:nvPicPr>
        <p:blipFill>
          <a:blip r:embed="rId1"/>
          <a:stretch/>
        </p:blipFill>
        <p:spPr>
          <a:xfrm>
            <a:off x="684360" y="28404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5" descr="ina5"/>
          <p:cNvPicPr/>
          <p:nvPr/>
        </p:nvPicPr>
        <p:blipFill>
          <a:blip r:embed="rId1"/>
          <a:stretch/>
        </p:blipFill>
        <p:spPr>
          <a:xfrm>
            <a:off x="468360" y="122400"/>
            <a:ext cx="849636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5" descr="int6"/>
          <p:cNvPicPr/>
          <p:nvPr/>
        </p:nvPicPr>
        <p:blipFill>
          <a:blip r:embed="rId1"/>
          <a:stretch/>
        </p:blipFill>
        <p:spPr>
          <a:xfrm>
            <a:off x="468360" y="12240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5" descr="физ"/>
          <p:cNvPicPr/>
          <p:nvPr/>
        </p:nvPicPr>
        <p:blipFill>
          <a:blip r:embed="rId1"/>
          <a:stretch/>
        </p:blipFill>
        <p:spPr>
          <a:xfrm>
            <a:off x="-285840" y="-214200"/>
            <a:ext cx="9786960" cy="721512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13880" y="2214360"/>
            <a:ext cx="7859880" cy="129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 Евразии проживает около ¾ населения всего земного шара, а численность населения составляет около 4,7 млрд.человек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5" descr="int7"/>
          <p:cNvPicPr/>
          <p:nvPr/>
        </p:nvPicPr>
        <p:blipFill>
          <a:blip r:embed="rId1"/>
          <a:stretch/>
        </p:blipFill>
        <p:spPr>
          <a:xfrm>
            <a:off x="539640" y="176040"/>
            <a:ext cx="8353440" cy="62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5" descr="jap3"/>
          <p:cNvPicPr/>
          <p:nvPr/>
        </p:nvPicPr>
        <p:blipFill>
          <a:blip r:embed="rId1"/>
          <a:stretch/>
        </p:blipFill>
        <p:spPr>
          <a:xfrm>
            <a:off x="539640" y="176040"/>
            <a:ext cx="842508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5" descr="mon1"/>
          <p:cNvPicPr/>
          <p:nvPr/>
        </p:nvPicPr>
        <p:blipFill>
          <a:blip r:embed="rId1"/>
          <a:stretch/>
        </p:blipFill>
        <p:spPr>
          <a:xfrm>
            <a:off x="539640" y="176040"/>
            <a:ext cx="8353440" cy="62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5" descr="peo5"/>
          <p:cNvPicPr/>
          <p:nvPr/>
        </p:nvPicPr>
        <p:blipFill>
          <a:blip r:embed="rId1"/>
          <a:stretch/>
        </p:blipFill>
        <p:spPr>
          <a:xfrm>
            <a:off x="468360" y="12240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5" descr="peo6"/>
          <p:cNvPicPr/>
          <p:nvPr/>
        </p:nvPicPr>
        <p:blipFill>
          <a:blip r:embed="rId1"/>
          <a:stretch/>
        </p:blipFill>
        <p:spPr>
          <a:xfrm>
            <a:off x="539640" y="17604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5" descr="tra7"/>
          <p:cNvPicPr/>
          <p:nvPr/>
        </p:nvPicPr>
        <p:blipFill>
          <a:blip r:embed="rId1"/>
          <a:stretch/>
        </p:blipFill>
        <p:spPr>
          <a:xfrm>
            <a:off x="395280" y="68400"/>
            <a:ext cx="85694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раз жизни, религиозные убеждения, природные ресурсы, климатические условия  повлияли на типы жилищ народов Евразии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8" name="Picture 9" descr="mon2"/>
          <p:cNvPicPr/>
          <p:nvPr/>
        </p:nvPicPr>
        <p:blipFill>
          <a:blip r:embed="rId1"/>
          <a:stretch/>
        </p:blipFill>
        <p:spPr>
          <a:xfrm>
            <a:off x="1363680" y="2362320"/>
            <a:ext cx="2724120" cy="179856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0" descr="жилища - 2"/>
          <p:cNvPicPr/>
          <p:nvPr/>
        </p:nvPicPr>
        <p:blipFill>
          <a:blip r:embed="rId2"/>
          <a:stretch/>
        </p:blipFill>
        <p:spPr>
          <a:xfrm>
            <a:off x="5126040" y="2362320"/>
            <a:ext cx="3035160" cy="17985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1" descr="mon3"/>
          <p:cNvPicPr/>
          <p:nvPr/>
        </p:nvPicPr>
        <p:blipFill>
          <a:blip r:embed="rId3"/>
          <a:stretch/>
        </p:blipFill>
        <p:spPr>
          <a:xfrm>
            <a:off x="5072040" y="421488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12" descr="жилища"/>
          <p:cNvPicPr/>
          <p:nvPr/>
        </p:nvPicPr>
        <p:blipFill>
          <a:blip r:embed="rId4"/>
          <a:stretch/>
        </p:blipFill>
        <p:spPr>
          <a:xfrm>
            <a:off x="900000" y="4292640"/>
            <a:ext cx="3132360" cy="2187360"/>
          </a:xfrm>
          <a:prstGeom prst="rect">
            <a:avLst/>
          </a:prstGeom>
          <a:ln w="0">
            <a:noFill/>
          </a:ln>
        </p:spPr>
      </p:pic>
      <p:sp>
        <p:nvSpPr>
          <p:cNvPr id="922" name="Управляющая кнопка: назад 6">
            <a:hlinkClick r:id="rId5"/>
          </p:cNvPr>
          <p:cNvSpPr/>
          <p:nvPr/>
        </p:nvSpPr>
        <p:spPr>
          <a:xfrm>
            <a:off x="8358120" y="6286680"/>
            <a:ext cx="428760" cy="214200"/>
          </a:xfrm>
          <a:custGeom>
            <a:avLst/>
            <a:gdLst>
              <a:gd name="textAreaLeft" fmla="*/ 13680 w 428760"/>
              <a:gd name="textAreaRight" fmla="*/ 415080 w 42876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4" descr="пол"/>
          <p:cNvPicPr/>
          <p:nvPr/>
        </p:nvPicPr>
        <p:blipFill>
          <a:blip r:embed="rId1"/>
          <a:stretch/>
        </p:blipFill>
        <p:spPr>
          <a:xfrm>
            <a:off x="642960" y="19080"/>
            <a:ext cx="8082000" cy="683892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28840" y="521460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литическая карта Евразии необычайно пестр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Самые большие по площади страны Евразии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2987640" y="2133720"/>
            <a:ext cx="316872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Oval 7"/>
          <p:cNvSpPr/>
          <p:nvPr/>
        </p:nvSpPr>
        <p:spPr>
          <a:xfrm>
            <a:off x="5219640" y="4149720"/>
            <a:ext cx="316872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нд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Oval 8"/>
          <p:cNvSpPr/>
          <p:nvPr/>
        </p:nvSpPr>
        <p:spPr>
          <a:xfrm>
            <a:off x="714240" y="4071960"/>
            <a:ext cx="316872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Кит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амые большие по численности населения страны Еврази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ита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д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сс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по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донез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кист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нгладе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Карликовые» государства Евраз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тик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гапу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дор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ь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н-Мари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витые государства Евразии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именее развитые страны Евраз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фгани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нгладе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а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ьян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роды Евразии относятся к разным расам и языковым группа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894" name="Picture 8" descr="БезИмени-1 copy"/>
          <p:cNvPicPr/>
          <p:nvPr/>
        </p:nvPicPr>
        <p:blipFill>
          <a:blip r:embed="rId1"/>
          <a:stretch/>
        </p:blipFill>
        <p:spPr>
          <a:xfrm>
            <a:off x="4427640" y="1933560"/>
            <a:ext cx="4321080" cy="39117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9" descr="bir3"/>
          <p:cNvPicPr/>
          <p:nvPr/>
        </p:nvPicPr>
        <p:blipFill>
          <a:blip r:embed="rId2"/>
          <a:stretch/>
        </p:blipFill>
        <p:spPr>
          <a:xfrm>
            <a:off x="1017720" y="3941640"/>
            <a:ext cx="2916000" cy="21891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0" descr="1"/>
          <p:cNvPicPr/>
          <p:nvPr/>
        </p:nvPicPr>
        <p:blipFill>
          <a:blip r:embed="rId3"/>
          <a:stretch/>
        </p:blipFill>
        <p:spPr>
          <a:xfrm>
            <a:off x="971640" y="1557360"/>
            <a:ext cx="2962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9:22:11Z</dcterms:created>
  <dc:creator>главный</dc:creator>
  <dc:description/>
  <dc:language>en-US</dc:language>
  <cp:lastModifiedBy>Сервер</cp:lastModifiedBy>
  <dcterms:modified xsi:type="dcterms:W3CDTF">2011-05-05T10:08:53Z</dcterms:modified>
  <cp:revision>15</cp:revision>
  <dc:subject/>
  <dc:title>Народы и страны Евразии</dc:title>
</cp:coreProperties>
</file>