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43F-06F4-4573-9E35-F4E3ACF2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C12-88B1-4AB1-BF65-46F571F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8BF-5F31-428D-BC43-1BC8211C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D78-E863-4ACC-92DA-F753BE07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6D0F-9AC4-4887-A620-CF2C7F14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6B56-1849-4F63-9F6F-2B51578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019F-1FA6-4A31-ACEA-370AC71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594-2FDC-4ED9-80FF-6E0382A9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568-2A7E-427E-A2F6-7F95D473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E24-327D-426F-AD4E-1DBE11F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24C2-A0AC-43F4-B584-7D35E6F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7BE-4D04-4027-8490-2AF5550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DF9-291C-4636-B3F0-7E18F86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24D-3B64-42CC-AE90-1548163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2E19-9691-472C-9DF3-284CED0C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D1D-E7C9-4732-8726-F7CB40E5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429-ADC8-4103-A544-F297965A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D695-69F2-4764-869F-4B159DC6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8F77-562F-4224-8799-FC7C06BF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FDC5-1304-4325-9350-CD7BF15B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AB52-3D8F-4888-9F56-77A280BF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F24A-7F4D-4865-AA9B-81E4086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72D-D1D0-4B4A-9383-4C87EFB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B5E1-19E3-4C42-877D-8325005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9E37-01EA-4394-804F-623CF77F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EB56-C384-4144-9E1C-2B4A79D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26B6-F872-4A1B-AF7F-48D31BC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7B75-6642-4C2E-B918-B565D3AB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8F7C-9FAC-485F-9976-2CDDF379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C573-8E21-4BA7-839C-4021E40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8B03-B279-4FD6-B069-C34DB7E1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F7BC0-2242-43FA-B4B0-4974E31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D687-95A2-41EE-B4E0-188A0822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F8F-5407-482C-940A-669F144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0087-DDFC-450C-A954-43E07D89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55E2-5B6D-4DA6-82C0-24FDF03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F8C0-3907-4386-9BDF-39FF84A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F5D2-00EB-4EE0-8A1B-DDBF8614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EF9E0-DB06-4B6B-B102-CFDFCFD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D0A8-866C-4E3A-BD22-F24DC56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BE2A-40A1-4303-B69A-65BA43BB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458F-86E3-41D9-AA7F-EADCAA21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49B3-616C-49D8-889D-915EA955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1ADF-C475-4933-995D-0EB7CF4A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A78-0833-40CE-B17A-7BD9980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228C-9EA6-4EEB-BB0D-E37974F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E023-2E4F-40DF-A381-B192C8FF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A8D8-FA9B-46DB-BF05-7C92829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6FA1-6110-4BC4-AED5-AE243AF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9ED6-E924-4A56-9B67-FD82A62E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B20A-B11B-46ED-B823-06F3502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9B59F-D4AC-4EBD-B0E6-DADD919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0E6F-20D0-4750-B9B8-190F88B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D623-22F2-4D49-B27B-9096AE8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39DAD-79E9-4625-AE46-0C2812FC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AB0-AC62-4308-892D-AA6F076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A55C-E0B0-49A4-BDAC-43CDB061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4F1B-C7F0-4705-B489-AE6A6CAA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45B3-886A-44B4-B502-6E1AE9A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55D5-7BD7-4A71-934D-CAA42AD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E3C2-4CE0-478C-88EA-929EB7C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9F21-D2A1-49D4-954D-D59212F5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C1CF-B027-4B6B-AF63-04615C29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AB7F5-68EE-4C4D-953A-6FBC71F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CC2B0-E1CA-4CCB-AAB0-1B1F81A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4E09-02ED-4C2E-9589-28800E91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D4E-6463-4B30-9501-1A4FAA6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8454-0F0C-4A44-8E8F-BC9BCE8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55EC-DC5C-49C6-9910-8700CF17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87B7-7DB6-43BC-8BC0-64291E94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4649-30B3-4E6E-B1B8-692A3B51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BFEB-64A6-4370-B4A9-6E3F18A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CD554-DA08-486C-B22B-E3102ED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D68A-46D8-4ABD-B4C4-0750E36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93CB-F29A-4476-92D9-5494C38A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1A9E-BF09-47D6-A120-4817D4E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00C7-A9E5-45F1-B19A-D932334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B98-5147-4AD3-96F8-88CACFE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3CBB-400C-43C5-8F1C-E9A8DA5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2BC8-8C72-492C-B0E8-03A2FF0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83A8-BAC0-4600-9503-3AEDCF8E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1C86-1313-45C6-B712-D79CDC21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F0CF1-6169-4548-A2D1-07213A9D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4F8B-8335-4D91-B656-23C64C97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C1AE-C8DD-4C1D-9B3B-7548101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2FF3-8FA2-4A88-B7D5-93805408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759E7-36AD-4144-A716-63D4F6F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71B1-ED40-4236-8D17-053759C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C35-5BAE-46DF-9F67-148951F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45F0-7B97-498A-B5E3-947B304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D300-8ECB-4947-850F-4AD76C7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AD06-0CA9-4C10-AFE9-485D417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B11F-FFAC-44FB-B4CB-02CD082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93553-A570-4C45-850A-CB7B4D67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42CE-A4CE-4F4D-8DC4-6126320E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7B48-DAD8-4C1F-9A24-83F9289A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C877-6AAD-4D6C-8EBB-7EE0554A4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7C4F-1986-4A96-BF24-3D8D712119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542F-5FBB-4048-8989-4E1EF1FA99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BC9-AA7D-401A-8240-D642D53ABA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6D7-10DD-42F6-9B82-DFFAFE7FCA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9307-7129-4140-A195-71BFFA5AD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A720-D903-45D1-98A5-DE6639D8F4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1976-A5A6-4A82-B1F8-0736D08F0B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роды и страны Евраз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Нагорьевская средняя общеобразовательная школа Ровеньского района Белгород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WordArt 6"/>
          <p:cNvSpPr txBox="1"/>
          <p:nvPr/>
        </p:nvSpPr>
        <p:spPr>
          <a:xfrm>
            <a:off x="2340000" y="5300640"/>
            <a:ext cx="50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готовил: Постолов Евгени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к 7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 "Нагорьевская сош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4211640" y="6165720"/>
            <a:ext cx="636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5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9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9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Самые большие по площади страны Евраз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071880" y="1500120"/>
            <a:ext cx="316872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5572080" y="2643120"/>
            <a:ext cx="316872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785880" y="2643120"/>
            <a:ext cx="316872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и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857160" y="46432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Евразии проживает около ¾ населения всего земного шара, а численность населения составляет около 4,7 млрд.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мые большие по численности населения страны Евраз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п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оне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к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гладе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5" descr="C:\Users\Сабинина ВВ\Desktop\ол.gif"/>
          <p:cNvPicPr/>
          <p:nvPr/>
        </p:nvPicPr>
        <p:blipFill>
          <a:blip r:embed="rId1"/>
          <a:stretch/>
        </p:blipFill>
        <p:spPr>
          <a:xfrm>
            <a:off x="3786120" y="1857240"/>
            <a:ext cx="43498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85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5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85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85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85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85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85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арликовые» государства Евраз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тик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гап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дор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н-Мар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4" descr="C:\Users\Сабинина ВВ\Desktop\у4.gif"/>
          <p:cNvPicPr/>
          <p:nvPr/>
        </p:nvPicPr>
        <p:blipFill>
          <a:blip r:embed="rId1"/>
          <a:stretch/>
        </p:blipFill>
        <p:spPr>
          <a:xfrm>
            <a:off x="4071960" y="19288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тые государства Евраз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31640" y="2349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п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5" descr="C:\Users\Сабинина ВВ\Desktop\нок.jpg"/>
          <p:cNvPicPr/>
          <p:nvPr/>
        </p:nvPicPr>
        <p:blipFill>
          <a:blip r:embed="rId1"/>
          <a:stretch/>
        </p:blipFill>
        <p:spPr>
          <a:xfrm>
            <a:off x="4786200" y="1428840"/>
            <a:ext cx="3909960" cy="29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Сабинина ВВ\Desktop\рог.gif"/>
          <p:cNvPicPr/>
          <p:nvPr/>
        </p:nvPicPr>
        <p:blipFill>
          <a:blip r:embed="rId2"/>
          <a:stretch/>
        </p:blipFill>
        <p:spPr>
          <a:xfrm>
            <a:off x="5000760" y="4572000"/>
            <a:ext cx="3714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именее развитые страны Евраз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78920" y="21337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ган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гладе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ьян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5" descr="C:\Users\Сабинина ВВ\Desktop\im.gif"/>
          <p:cNvPicPr/>
          <p:nvPr/>
        </p:nvPicPr>
        <p:blipFill>
          <a:blip r:embed="rId1"/>
          <a:stretch/>
        </p:blipFill>
        <p:spPr>
          <a:xfrm>
            <a:off x="3929040" y="1928880"/>
            <a:ext cx="4005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ы Евразии относятся к разным расам и языковым групп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6" descr="C:\Users\Сабинина ВВ\Desktop\щ.jpg"/>
          <p:cNvPicPr/>
          <p:nvPr/>
        </p:nvPicPr>
        <p:blipFill>
          <a:blip r:embed="rId1"/>
          <a:stretch/>
        </p:blipFill>
        <p:spPr>
          <a:xfrm>
            <a:off x="4572000" y="1714680"/>
            <a:ext cx="4118040" cy="3500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C:\Users\Сабинина ВВ\Desktop\з.gif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раз жизни, религиозные убеждения, природные ресурсы, климатические условия  повлияли на типы жилищ народов Евразии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7" name="Picture 7" descr="C:\Users\Сабинина ВВ\Desktop\ь.jpg"/>
          <p:cNvPicPr/>
          <p:nvPr/>
        </p:nvPicPr>
        <p:blipFill>
          <a:blip r:embed="rId1"/>
          <a:stretch/>
        </p:blipFill>
        <p:spPr>
          <a:xfrm>
            <a:off x="928800" y="1892160"/>
            <a:ext cx="3429000" cy="2265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C:\Users\Сабинина ВВ\Desktop\аве.jpg"/>
          <p:cNvPicPr/>
          <p:nvPr/>
        </p:nvPicPr>
        <p:blipFill>
          <a:blip r:embed="rId2"/>
          <a:stretch/>
        </p:blipFill>
        <p:spPr>
          <a:xfrm>
            <a:off x="1285920" y="4143240"/>
            <a:ext cx="3133800" cy="2190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9" descr="C:\Users\Сабинина ВВ\Desktop\ьл.jpg"/>
          <p:cNvPicPr/>
          <p:nvPr/>
        </p:nvPicPr>
        <p:blipFill>
          <a:blip r:embed="rId3"/>
          <a:stretch/>
        </p:blipFill>
        <p:spPr>
          <a:xfrm>
            <a:off x="4929120" y="2000160"/>
            <a:ext cx="3500640" cy="20732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837720" y="4300200"/>
            <a:ext cx="41626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2" name="Picture 10" descr="C:\Users\Сабинина ВВ\Desktop\ь.gif"/>
          <p:cNvPicPr/>
          <p:nvPr/>
        </p:nvPicPr>
        <p:blipFill>
          <a:blip r:embed="rId4"/>
          <a:stretch/>
        </p:blipFill>
        <p:spPr>
          <a:xfrm>
            <a:off x="5000760" y="42148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6"/>
          <p:cNvSpPr txBox="1"/>
          <p:nvPr/>
        </p:nvSpPr>
        <p:spPr>
          <a:xfrm>
            <a:off x="468360" y="2133720"/>
            <a:ext cx="813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66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еюсь, что Вам понравилос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f0066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66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е увлекательное путешеств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f0066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66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странам Евразии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f0066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9:22:11Z</dcterms:created>
  <dc:creator>главный</dc:creator>
  <dc:description/>
  <dc:language>en-US</dc:language>
  <cp:lastModifiedBy>Сабинина ВВ</cp:lastModifiedBy>
  <dcterms:modified xsi:type="dcterms:W3CDTF">2008-12-19T22:29:57Z</dcterms:modified>
  <cp:revision>16</cp:revision>
  <dc:subject/>
  <dc:title>Народы и страны Евразии</dc:title>
</cp:coreProperties>
</file>