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D0C1-F603-4752-BEDD-B3CE7A266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2C9B-7BAA-4AA8-9A4B-B40206018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82F4-81CD-47B7-879B-8ABF7DE27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4AEB-3464-4EF3-94BA-82BC44D93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0AC8-EEF4-4DC8-8439-93D4E3A0D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6FD7-9BC7-41F3-85E2-8903CF631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BD05-2F0C-4844-A7A9-C868916A3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7C05-31DB-4B9F-9EFA-20A571424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803E-94AB-48DD-B312-34B677A88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7DB6-5132-4EA3-9383-974FE74EF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E64C-08EF-428B-8582-BB64904E7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5F52-6813-4A39-8A5F-02B641927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C1B83-6B17-413C-8B38-B09138560D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765000"/>
            <a:ext cx="76312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Вероятностно-статистический </a:t>
            </a:r>
            <a:br>
              <a:rPr sz="4000"/>
            </a:b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материал </a:t>
            </a:r>
            <a:br>
              <a:rPr sz="4000"/>
            </a:b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на второй ступени</a:t>
            </a:r>
            <a:br>
              <a:rPr sz="4000"/>
            </a:b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общего  образовани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0640" y="5407920"/>
            <a:ext cx="628308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435880" cy="22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Размахо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ряда чисел называется разность между наибольшим и наименьшим из этих чисел.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Колебания температуры воздуха  в течение суток через каждые 3 часа.</a:t>
            </a:r>
            <a:br>
              <a:rPr sz="2400"/>
            </a:br>
            <a:br>
              <a:rPr sz="24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457200" y="2421000"/>
          <a:ext cx="8229600" cy="2378160"/>
        </p:xfrm>
        <a:graphic>
          <a:graphicData uri="http://schemas.openxmlformats.org/drawingml/2006/table">
            <a:tbl>
              <a:tblPr/>
              <a:tblGrid>
                <a:gridCol w="1162080"/>
                <a:gridCol w="665280"/>
                <a:gridCol w="915840"/>
                <a:gridCol w="915840"/>
                <a:gridCol w="911520"/>
                <a:gridCol w="915840"/>
                <a:gridCol w="915840"/>
                <a:gridCol w="911520"/>
                <a:gridCol w="9158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ремя суток в час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мпература воздуха в градуса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5084280"/>
            <a:ext cx="8229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Найдите разм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-118440"/>
            <a:ext cx="82072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84360" y="549360"/>
            <a:ext cx="755964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пасибо за урок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611280" y="2349360"/>
            <a:ext cx="7416720" cy="45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931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c93107"/>
                </a:solidFill>
                <a:uFillTx/>
                <a:latin typeface="Arial"/>
              </a:rPr>
              <a:t>Статистик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9900"/>
                </a:solidFill>
                <a:latin typeface="Arial"/>
              </a:rPr>
              <a:t>(от латинского 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status</a:t>
            </a:r>
            <a:r>
              <a:rPr b="0" lang="ru-RU" sz="3200" spc="-1" strike="noStrike">
                <a:solidFill>
                  <a:srgbClr val="ff9900"/>
                </a:solidFill>
                <a:latin typeface="Arial"/>
              </a:rPr>
              <a:t> – состояние) – наука изучающая, обрабатывающая и анализирующая количественные данные о самых разнообразных массовых явлениях в жиз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-111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Статистик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зучает численность населения страны и ее регионов, производство и потребление разноообразных видов продукции, перевозку грузов и пассажиров разными видами транспорта, природные ресурсы  и т. п.Результаты статистических  исследований  широко используются для практических и научных нуж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00"/>
                </a:solidFill>
                <a:latin typeface="Arial"/>
              </a:rPr>
              <a:t>Виды статисти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49c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49c2a"/>
                </a:solidFill>
                <a:latin typeface="Arial"/>
              </a:rPr>
              <a:t>Экономическ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49c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49c2a"/>
                </a:solidFill>
                <a:latin typeface="Arial"/>
              </a:rPr>
              <a:t>Медицинск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49c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49c2a"/>
                </a:solidFill>
                <a:latin typeface="Arial"/>
              </a:rPr>
              <a:t>Налогов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c49c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49c2a"/>
                </a:solidFill>
                <a:latin typeface="Arial"/>
              </a:rPr>
              <a:t>Метеорологическ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901"/>
              </a:spcBef>
              <a:buClr>
                <a:srgbClr val="c49c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49c2a"/>
                </a:solidFill>
                <a:latin typeface="Arial"/>
              </a:rPr>
              <a:t>Демографическ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901"/>
              </a:spcBef>
              <a:buClr>
                <a:srgbClr val="c49c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49c2a"/>
                </a:solidFill>
                <a:latin typeface="Arial"/>
              </a:rPr>
              <a:t>Финансов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901"/>
              </a:spcBef>
              <a:buClr>
                <a:srgbClr val="c49c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49c2a"/>
                </a:solidFill>
                <a:latin typeface="Arial"/>
              </a:rPr>
              <a:t>Биологическ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124000" y="1413000"/>
            <a:ext cx="4536720" cy="1871640"/>
            <a:chOff x="2124000" y="1413000"/>
            <a:chExt cx="4536720" cy="1871640"/>
          </a:xfrm>
        </p:grpSpPr>
        <p:sp>
          <p:nvSpPr>
            <p:cNvPr id="50" name=""/>
            <p:cNvSpPr/>
            <p:nvPr/>
          </p:nvSpPr>
          <p:spPr>
            <a:xfrm rot="5400000">
              <a:off x="2727720" y="1216080"/>
              <a:ext cx="1722960" cy="2118600"/>
            </a:xfrm>
            <a:custGeom>
              <a:avLst/>
              <a:gdLst/>
              <a:ahLst/>
              <a:rect l="l" t="t" r="r" b="b"/>
              <a:pathLst>
                <a:path w="3026" h="1215">
                  <a:moveTo>
                    <a:pt x="0" y="0"/>
                  </a:moveTo>
                  <a:lnTo>
                    <a:pt x="126" y="0"/>
                  </a:lnTo>
                  <a:lnTo>
                    <a:pt x="234" y="3"/>
                  </a:lnTo>
                  <a:lnTo>
                    <a:pt x="353" y="8"/>
                  </a:lnTo>
                  <a:lnTo>
                    <a:pt x="473" y="12"/>
                  </a:lnTo>
                  <a:lnTo>
                    <a:pt x="604" y="21"/>
                  </a:lnTo>
                  <a:lnTo>
                    <a:pt x="731" y="32"/>
                  </a:lnTo>
                  <a:lnTo>
                    <a:pt x="843" y="41"/>
                  </a:lnTo>
                  <a:lnTo>
                    <a:pt x="969" y="54"/>
                  </a:lnTo>
                  <a:lnTo>
                    <a:pt x="1082" y="68"/>
                  </a:lnTo>
                  <a:lnTo>
                    <a:pt x="1186" y="81"/>
                  </a:lnTo>
                  <a:lnTo>
                    <a:pt x="1307" y="99"/>
                  </a:lnTo>
                  <a:lnTo>
                    <a:pt x="1452" y="126"/>
                  </a:lnTo>
                  <a:lnTo>
                    <a:pt x="1578" y="149"/>
                  </a:lnTo>
                  <a:lnTo>
                    <a:pt x="1718" y="180"/>
                  </a:lnTo>
                  <a:lnTo>
                    <a:pt x="1863" y="216"/>
                  </a:lnTo>
                  <a:lnTo>
                    <a:pt x="1998" y="252"/>
                  </a:lnTo>
                  <a:lnTo>
                    <a:pt x="2106" y="288"/>
                  </a:lnTo>
                  <a:lnTo>
                    <a:pt x="2242" y="333"/>
                  </a:lnTo>
                  <a:lnTo>
                    <a:pt x="2354" y="378"/>
                  </a:lnTo>
                  <a:lnTo>
                    <a:pt x="2453" y="418"/>
                  </a:lnTo>
                  <a:lnTo>
                    <a:pt x="2534" y="463"/>
                  </a:lnTo>
                  <a:lnTo>
                    <a:pt x="2615" y="504"/>
                  </a:lnTo>
                  <a:lnTo>
                    <a:pt x="2679" y="544"/>
                  </a:lnTo>
                  <a:lnTo>
                    <a:pt x="2733" y="580"/>
                  </a:lnTo>
                  <a:lnTo>
                    <a:pt x="2792" y="626"/>
                  </a:lnTo>
                  <a:lnTo>
                    <a:pt x="2850" y="671"/>
                  </a:lnTo>
                  <a:lnTo>
                    <a:pt x="2895" y="716"/>
                  </a:lnTo>
                  <a:lnTo>
                    <a:pt x="2959" y="801"/>
                  </a:lnTo>
                  <a:lnTo>
                    <a:pt x="2999" y="874"/>
                  </a:lnTo>
                  <a:lnTo>
                    <a:pt x="3008" y="905"/>
                  </a:lnTo>
                  <a:lnTo>
                    <a:pt x="3026" y="967"/>
                  </a:lnTo>
                  <a:lnTo>
                    <a:pt x="3026" y="1017"/>
                  </a:lnTo>
                  <a:lnTo>
                    <a:pt x="3026" y="1215"/>
                  </a:lnTo>
                  <a:lnTo>
                    <a:pt x="2900" y="1120"/>
                  </a:lnTo>
                  <a:lnTo>
                    <a:pt x="2295" y="684"/>
                  </a:lnTo>
                  <a:lnTo>
                    <a:pt x="1420" y="454"/>
                  </a:lnTo>
                  <a:lnTo>
                    <a:pt x="516" y="333"/>
                  </a:lnTo>
                  <a:lnTo>
                    <a:pt x="0" y="30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rot="5400000">
              <a:off x="2462040" y="2772000"/>
              <a:ext cx="585720" cy="43956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rot="5400000">
              <a:off x="2037600" y="2783160"/>
              <a:ext cx="585360" cy="412920"/>
            </a:xfrm>
            <a:custGeom>
              <a:avLst/>
              <a:gdLst/>
              <a:ahLst/>
              <a:rect l="l" t="t" r="r" b="b"/>
              <a:pathLst>
                <a:path w="1028" h="237">
                  <a:moveTo>
                    <a:pt x="0" y="0"/>
                  </a:moveTo>
                  <a:lnTo>
                    <a:pt x="1028" y="0"/>
                  </a:lnTo>
                  <a:lnTo>
                    <a:pt x="514" y="23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rot="5400000">
              <a:off x="2491560" y="1459440"/>
              <a:ext cx="1721520" cy="1630080"/>
            </a:xfrm>
            <a:custGeom>
              <a:avLst/>
              <a:gdLst/>
              <a:ahLst/>
              <a:rect l="l" t="t" r="r" b="b"/>
              <a:pathLst>
                <a:path w="3023" h="935">
                  <a:moveTo>
                    <a:pt x="0" y="148"/>
                  </a:moveTo>
                  <a:lnTo>
                    <a:pt x="79" y="148"/>
                  </a:lnTo>
                  <a:lnTo>
                    <a:pt x="179" y="149"/>
                  </a:lnTo>
                  <a:lnTo>
                    <a:pt x="260" y="151"/>
                  </a:lnTo>
                  <a:lnTo>
                    <a:pt x="341" y="154"/>
                  </a:lnTo>
                  <a:lnTo>
                    <a:pt x="431" y="158"/>
                  </a:lnTo>
                  <a:lnTo>
                    <a:pt x="513" y="163"/>
                  </a:lnTo>
                  <a:lnTo>
                    <a:pt x="606" y="169"/>
                  </a:lnTo>
                  <a:lnTo>
                    <a:pt x="681" y="175"/>
                  </a:lnTo>
                  <a:lnTo>
                    <a:pt x="776" y="184"/>
                  </a:lnTo>
                  <a:lnTo>
                    <a:pt x="868" y="194"/>
                  </a:lnTo>
                  <a:lnTo>
                    <a:pt x="967" y="205"/>
                  </a:lnTo>
                  <a:lnTo>
                    <a:pt x="1050" y="217"/>
                  </a:lnTo>
                  <a:lnTo>
                    <a:pt x="1127" y="227"/>
                  </a:lnTo>
                  <a:lnTo>
                    <a:pt x="1214" y="240"/>
                  </a:lnTo>
                  <a:lnTo>
                    <a:pt x="1341" y="262"/>
                  </a:lnTo>
                  <a:lnTo>
                    <a:pt x="1456" y="286"/>
                  </a:lnTo>
                  <a:lnTo>
                    <a:pt x="1595" y="318"/>
                  </a:lnTo>
                  <a:lnTo>
                    <a:pt x="1685" y="342"/>
                  </a:lnTo>
                  <a:lnTo>
                    <a:pt x="1744" y="359"/>
                  </a:lnTo>
                  <a:lnTo>
                    <a:pt x="1857" y="393"/>
                  </a:lnTo>
                  <a:lnTo>
                    <a:pt x="1963" y="431"/>
                  </a:lnTo>
                  <a:lnTo>
                    <a:pt x="2042" y="461"/>
                  </a:lnTo>
                  <a:lnTo>
                    <a:pt x="2102" y="486"/>
                  </a:lnTo>
                  <a:lnTo>
                    <a:pt x="2168" y="518"/>
                  </a:lnTo>
                  <a:lnTo>
                    <a:pt x="2224" y="548"/>
                  </a:lnTo>
                  <a:lnTo>
                    <a:pt x="2271" y="575"/>
                  </a:lnTo>
                  <a:lnTo>
                    <a:pt x="2324" y="610"/>
                  </a:lnTo>
                  <a:lnTo>
                    <a:pt x="2370" y="643"/>
                  </a:lnTo>
                  <a:lnTo>
                    <a:pt x="2409" y="676"/>
                  </a:lnTo>
                  <a:lnTo>
                    <a:pt x="2444" y="706"/>
                  </a:lnTo>
                  <a:lnTo>
                    <a:pt x="2471" y="736"/>
                  </a:lnTo>
                  <a:lnTo>
                    <a:pt x="2492" y="763"/>
                  </a:lnTo>
                  <a:lnTo>
                    <a:pt x="2510" y="793"/>
                  </a:lnTo>
                  <a:lnTo>
                    <a:pt x="2525" y="820"/>
                  </a:lnTo>
                  <a:lnTo>
                    <a:pt x="2534" y="844"/>
                  </a:lnTo>
                  <a:lnTo>
                    <a:pt x="2545" y="876"/>
                  </a:lnTo>
                  <a:lnTo>
                    <a:pt x="2549" y="905"/>
                  </a:lnTo>
                  <a:lnTo>
                    <a:pt x="2551" y="935"/>
                  </a:lnTo>
                  <a:lnTo>
                    <a:pt x="3023" y="935"/>
                  </a:lnTo>
                  <a:lnTo>
                    <a:pt x="3019" y="887"/>
                  </a:lnTo>
                  <a:lnTo>
                    <a:pt x="3010" y="846"/>
                  </a:lnTo>
                  <a:lnTo>
                    <a:pt x="2998" y="811"/>
                  </a:lnTo>
                  <a:lnTo>
                    <a:pt x="2983" y="783"/>
                  </a:lnTo>
                  <a:lnTo>
                    <a:pt x="2966" y="753"/>
                  </a:lnTo>
                  <a:lnTo>
                    <a:pt x="2942" y="720"/>
                  </a:lnTo>
                  <a:lnTo>
                    <a:pt x="2921" y="694"/>
                  </a:lnTo>
                  <a:lnTo>
                    <a:pt x="2886" y="658"/>
                  </a:lnTo>
                  <a:lnTo>
                    <a:pt x="2852" y="626"/>
                  </a:lnTo>
                  <a:lnTo>
                    <a:pt x="2816" y="595"/>
                  </a:lnTo>
                  <a:lnTo>
                    <a:pt x="2773" y="563"/>
                  </a:lnTo>
                  <a:lnTo>
                    <a:pt x="2736" y="537"/>
                  </a:lnTo>
                  <a:lnTo>
                    <a:pt x="2674" y="500"/>
                  </a:lnTo>
                  <a:lnTo>
                    <a:pt x="2614" y="465"/>
                  </a:lnTo>
                  <a:lnTo>
                    <a:pt x="2524" y="422"/>
                  </a:lnTo>
                  <a:lnTo>
                    <a:pt x="2435" y="383"/>
                  </a:lnTo>
                  <a:lnTo>
                    <a:pt x="2345" y="347"/>
                  </a:lnTo>
                  <a:lnTo>
                    <a:pt x="2264" y="317"/>
                  </a:lnTo>
                  <a:lnTo>
                    <a:pt x="2150" y="279"/>
                  </a:lnTo>
                  <a:lnTo>
                    <a:pt x="2019" y="240"/>
                  </a:lnTo>
                  <a:lnTo>
                    <a:pt x="1888" y="208"/>
                  </a:lnTo>
                  <a:lnTo>
                    <a:pt x="1769" y="181"/>
                  </a:lnTo>
                  <a:lnTo>
                    <a:pt x="1688" y="163"/>
                  </a:lnTo>
                  <a:lnTo>
                    <a:pt x="1587" y="142"/>
                  </a:lnTo>
                  <a:lnTo>
                    <a:pt x="1514" y="128"/>
                  </a:lnTo>
                  <a:lnTo>
                    <a:pt x="1431" y="115"/>
                  </a:lnTo>
                  <a:lnTo>
                    <a:pt x="1347" y="101"/>
                  </a:lnTo>
                  <a:lnTo>
                    <a:pt x="1265" y="89"/>
                  </a:lnTo>
                  <a:lnTo>
                    <a:pt x="1157" y="74"/>
                  </a:lnTo>
                  <a:lnTo>
                    <a:pt x="1062" y="64"/>
                  </a:lnTo>
                  <a:lnTo>
                    <a:pt x="960" y="52"/>
                  </a:lnTo>
                  <a:lnTo>
                    <a:pt x="838" y="40"/>
                  </a:lnTo>
                  <a:lnTo>
                    <a:pt x="716" y="29"/>
                  </a:lnTo>
                  <a:lnTo>
                    <a:pt x="618" y="23"/>
                  </a:lnTo>
                  <a:lnTo>
                    <a:pt x="505" y="15"/>
                  </a:lnTo>
                  <a:lnTo>
                    <a:pt x="386" y="11"/>
                  </a:lnTo>
                  <a:lnTo>
                    <a:pt x="225" y="5"/>
                  </a:lnTo>
                  <a:lnTo>
                    <a:pt x="79" y="3"/>
                  </a:lnTo>
                  <a:lnTo>
                    <a:pt x="0" y="0"/>
                  </a:lnTo>
                  <a:lnTo>
                    <a:pt x="0" y="14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33320" y="1215360"/>
              <a:ext cx="1723680" cy="2118240"/>
            </a:xfrm>
            <a:custGeom>
              <a:avLst/>
              <a:gdLst/>
              <a:ahLst/>
              <a:rect l="l" t="t" r="r" b="b"/>
              <a:pathLst>
                <a:path w="3027" h="1215">
                  <a:moveTo>
                    <a:pt x="0" y="1215"/>
                  </a:moveTo>
                  <a:lnTo>
                    <a:pt x="126" y="1215"/>
                  </a:lnTo>
                  <a:lnTo>
                    <a:pt x="235" y="1212"/>
                  </a:lnTo>
                  <a:lnTo>
                    <a:pt x="354" y="1207"/>
                  </a:lnTo>
                  <a:lnTo>
                    <a:pt x="474" y="1203"/>
                  </a:lnTo>
                  <a:lnTo>
                    <a:pt x="605" y="1194"/>
                  </a:lnTo>
                  <a:lnTo>
                    <a:pt x="731" y="1183"/>
                  </a:lnTo>
                  <a:lnTo>
                    <a:pt x="843" y="1174"/>
                  </a:lnTo>
                  <a:lnTo>
                    <a:pt x="969" y="1161"/>
                  </a:lnTo>
                  <a:lnTo>
                    <a:pt x="1082" y="1147"/>
                  </a:lnTo>
                  <a:lnTo>
                    <a:pt x="1186" y="1134"/>
                  </a:lnTo>
                  <a:lnTo>
                    <a:pt x="1308" y="1116"/>
                  </a:lnTo>
                  <a:lnTo>
                    <a:pt x="1452" y="1089"/>
                  </a:lnTo>
                  <a:lnTo>
                    <a:pt x="1579" y="1066"/>
                  </a:lnTo>
                  <a:lnTo>
                    <a:pt x="1719" y="1035"/>
                  </a:lnTo>
                  <a:lnTo>
                    <a:pt x="1863" y="999"/>
                  </a:lnTo>
                  <a:lnTo>
                    <a:pt x="1999" y="963"/>
                  </a:lnTo>
                  <a:lnTo>
                    <a:pt x="2107" y="927"/>
                  </a:lnTo>
                  <a:lnTo>
                    <a:pt x="2242" y="882"/>
                  </a:lnTo>
                  <a:lnTo>
                    <a:pt x="2354" y="837"/>
                  </a:lnTo>
                  <a:lnTo>
                    <a:pt x="2453" y="797"/>
                  </a:lnTo>
                  <a:lnTo>
                    <a:pt x="2535" y="752"/>
                  </a:lnTo>
                  <a:lnTo>
                    <a:pt x="2616" y="711"/>
                  </a:lnTo>
                  <a:lnTo>
                    <a:pt x="2679" y="671"/>
                  </a:lnTo>
                  <a:lnTo>
                    <a:pt x="2733" y="635"/>
                  </a:lnTo>
                  <a:lnTo>
                    <a:pt x="2792" y="589"/>
                  </a:lnTo>
                  <a:lnTo>
                    <a:pt x="2851" y="544"/>
                  </a:lnTo>
                  <a:lnTo>
                    <a:pt x="2896" y="499"/>
                  </a:lnTo>
                  <a:lnTo>
                    <a:pt x="2959" y="414"/>
                  </a:lnTo>
                  <a:lnTo>
                    <a:pt x="3000" y="341"/>
                  </a:lnTo>
                  <a:lnTo>
                    <a:pt x="3009" y="310"/>
                  </a:lnTo>
                  <a:lnTo>
                    <a:pt x="3027" y="248"/>
                  </a:lnTo>
                  <a:lnTo>
                    <a:pt x="3027" y="198"/>
                  </a:lnTo>
                  <a:lnTo>
                    <a:pt x="3027" y="0"/>
                  </a:lnTo>
                  <a:lnTo>
                    <a:pt x="2900" y="95"/>
                  </a:lnTo>
                  <a:lnTo>
                    <a:pt x="2296" y="531"/>
                  </a:lnTo>
                  <a:lnTo>
                    <a:pt x="1421" y="761"/>
                  </a:lnTo>
                  <a:lnTo>
                    <a:pt x="516" y="882"/>
                  </a:lnTo>
                  <a:lnTo>
                    <a:pt x="0" y="909"/>
                  </a:lnTo>
                  <a:lnTo>
                    <a:pt x="0" y="1215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rot="5400000">
              <a:off x="5735520" y="2771280"/>
              <a:ext cx="585360" cy="4392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rot="5400000">
              <a:off x="6161760" y="2782080"/>
              <a:ext cx="584640" cy="412920"/>
            </a:xfrm>
            <a:custGeom>
              <a:avLst/>
              <a:gdLst/>
              <a:ahLst/>
              <a:rect l="l" t="t" r="r" b="b"/>
              <a:pathLst>
                <a:path w="1027" h="237">
                  <a:moveTo>
                    <a:pt x="0" y="237"/>
                  </a:moveTo>
                  <a:lnTo>
                    <a:pt x="1027" y="237"/>
                  </a:lnTo>
                  <a:lnTo>
                    <a:pt x="513" y="0"/>
                  </a:lnTo>
                  <a:lnTo>
                    <a:pt x="0" y="23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rot="5400000">
              <a:off x="4571640" y="1458720"/>
              <a:ext cx="1721880" cy="1630080"/>
            </a:xfrm>
            <a:custGeom>
              <a:avLst/>
              <a:gdLst/>
              <a:ahLst/>
              <a:rect l="l" t="t" r="r" b="b"/>
              <a:pathLst>
                <a:path w="3024" h="935">
                  <a:moveTo>
                    <a:pt x="2" y="789"/>
                  </a:moveTo>
                  <a:lnTo>
                    <a:pt x="80" y="787"/>
                  </a:lnTo>
                  <a:lnTo>
                    <a:pt x="179" y="786"/>
                  </a:lnTo>
                  <a:lnTo>
                    <a:pt x="260" y="784"/>
                  </a:lnTo>
                  <a:lnTo>
                    <a:pt x="342" y="781"/>
                  </a:lnTo>
                  <a:lnTo>
                    <a:pt x="432" y="777"/>
                  </a:lnTo>
                  <a:lnTo>
                    <a:pt x="513" y="772"/>
                  </a:lnTo>
                  <a:lnTo>
                    <a:pt x="606" y="766"/>
                  </a:lnTo>
                  <a:lnTo>
                    <a:pt x="682" y="760"/>
                  </a:lnTo>
                  <a:lnTo>
                    <a:pt x="777" y="751"/>
                  </a:lnTo>
                  <a:lnTo>
                    <a:pt x="869" y="741"/>
                  </a:lnTo>
                  <a:lnTo>
                    <a:pt x="968" y="730"/>
                  </a:lnTo>
                  <a:lnTo>
                    <a:pt x="1051" y="718"/>
                  </a:lnTo>
                  <a:lnTo>
                    <a:pt x="1127" y="708"/>
                  </a:lnTo>
                  <a:lnTo>
                    <a:pt x="1215" y="695"/>
                  </a:lnTo>
                  <a:lnTo>
                    <a:pt x="1341" y="673"/>
                  </a:lnTo>
                  <a:lnTo>
                    <a:pt x="1457" y="649"/>
                  </a:lnTo>
                  <a:lnTo>
                    <a:pt x="1595" y="617"/>
                  </a:lnTo>
                  <a:lnTo>
                    <a:pt x="1686" y="593"/>
                  </a:lnTo>
                  <a:lnTo>
                    <a:pt x="1744" y="576"/>
                  </a:lnTo>
                  <a:lnTo>
                    <a:pt x="1857" y="542"/>
                  </a:lnTo>
                  <a:lnTo>
                    <a:pt x="1964" y="504"/>
                  </a:lnTo>
                  <a:lnTo>
                    <a:pt x="2042" y="474"/>
                  </a:lnTo>
                  <a:lnTo>
                    <a:pt x="2102" y="449"/>
                  </a:lnTo>
                  <a:lnTo>
                    <a:pt x="2169" y="417"/>
                  </a:lnTo>
                  <a:lnTo>
                    <a:pt x="2224" y="387"/>
                  </a:lnTo>
                  <a:lnTo>
                    <a:pt x="2271" y="360"/>
                  </a:lnTo>
                  <a:lnTo>
                    <a:pt x="2324" y="325"/>
                  </a:lnTo>
                  <a:lnTo>
                    <a:pt x="2371" y="292"/>
                  </a:lnTo>
                  <a:lnTo>
                    <a:pt x="2410" y="259"/>
                  </a:lnTo>
                  <a:lnTo>
                    <a:pt x="2444" y="229"/>
                  </a:lnTo>
                  <a:lnTo>
                    <a:pt x="2472" y="199"/>
                  </a:lnTo>
                  <a:lnTo>
                    <a:pt x="2493" y="172"/>
                  </a:lnTo>
                  <a:lnTo>
                    <a:pt x="2511" y="142"/>
                  </a:lnTo>
                  <a:lnTo>
                    <a:pt x="2526" y="115"/>
                  </a:lnTo>
                  <a:lnTo>
                    <a:pt x="2535" y="91"/>
                  </a:lnTo>
                  <a:lnTo>
                    <a:pt x="2545" y="59"/>
                  </a:lnTo>
                  <a:lnTo>
                    <a:pt x="2550" y="30"/>
                  </a:lnTo>
                  <a:lnTo>
                    <a:pt x="2551" y="0"/>
                  </a:lnTo>
                  <a:lnTo>
                    <a:pt x="3024" y="0"/>
                  </a:lnTo>
                  <a:lnTo>
                    <a:pt x="3019" y="48"/>
                  </a:lnTo>
                  <a:lnTo>
                    <a:pt x="3010" y="89"/>
                  </a:lnTo>
                  <a:lnTo>
                    <a:pt x="2998" y="124"/>
                  </a:lnTo>
                  <a:lnTo>
                    <a:pt x="2983" y="152"/>
                  </a:lnTo>
                  <a:lnTo>
                    <a:pt x="2967" y="182"/>
                  </a:lnTo>
                  <a:lnTo>
                    <a:pt x="2942" y="215"/>
                  </a:lnTo>
                  <a:lnTo>
                    <a:pt x="2921" y="241"/>
                  </a:lnTo>
                  <a:lnTo>
                    <a:pt x="2887" y="277"/>
                  </a:lnTo>
                  <a:lnTo>
                    <a:pt x="2852" y="309"/>
                  </a:lnTo>
                  <a:lnTo>
                    <a:pt x="2816" y="340"/>
                  </a:lnTo>
                  <a:lnTo>
                    <a:pt x="2774" y="372"/>
                  </a:lnTo>
                  <a:lnTo>
                    <a:pt x="2736" y="398"/>
                  </a:lnTo>
                  <a:lnTo>
                    <a:pt x="2675" y="435"/>
                  </a:lnTo>
                  <a:lnTo>
                    <a:pt x="2614" y="470"/>
                  </a:lnTo>
                  <a:lnTo>
                    <a:pt x="2524" y="513"/>
                  </a:lnTo>
                  <a:lnTo>
                    <a:pt x="2435" y="552"/>
                  </a:lnTo>
                  <a:lnTo>
                    <a:pt x="2345" y="588"/>
                  </a:lnTo>
                  <a:lnTo>
                    <a:pt x="2265" y="618"/>
                  </a:lnTo>
                  <a:lnTo>
                    <a:pt x="2151" y="656"/>
                  </a:lnTo>
                  <a:lnTo>
                    <a:pt x="2020" y="695"/>
                  </a:lnTo>
                  <a:lnTo>
                    <a:pt x="1889" y="727"/>
                  </a:lnTo>
                  <a:lnTo>
                    <a:pt x="1770" y="754"/>
                  </a:lnTo>
                  <a:lnTo>
                    <a:pt x="1689" y="772"/>
                  </a:lnTo>
                  <a:lnTo>
                    <a:pt x="1588" y="793"/>
                  </a:lnTo>
                  <a:lnTo>
                    <a:pt x="1514" y="807"/>
                  </a:lnTo>
                  <a:lnTo>
                    <a:pt x="1431" y="820"/>
                  </a:lnTo>
                  <a:lnTo>
                    <a:pt x="1347" y="834"/>
                  </a:lnTo>
                  <a:lnTo>
                    <a:pt x="1266" y="846"/>
                  </a:lnTo>
                  <a:lnTo>
                    <a:pt x="1158" y="861"/>
                  </a:lnTo>
                  <a:lnTo>
                    <a:pt x="1063" y="871"/>
                  </a:lnTo>
                  <a:lnTo>
                    <a:pt x="960" y="883"/>
                  </a:lnTo>
                  <a:lnTo>
                    <a:pt x="839" y="895"/>
                  </a:lnTo>
                  <a:lnTo>
                    <a:pt x="716" y="906"/>
                  </a:lnTo>
                  <a:lnTo>
                    <a:pt x="618" y="912"/>
                  </a:lnTo>
                  <a:lnTo>
                    <a:pt x="506" y="920"/>
                  </a:lnTo>
                  <a:lnTo>
                    <a:pt x="387" y="924"/>
                  </a:lnTo>
                  <a:lnTo>
                    <a:pt x="226" y="930"/>
                  </a:lnTo>
                  <a:lnTo>
                    <a:pt x="80" y="932"/>
                  </a:lnTo>
                  <a:lnTo>
                    <a:pt x="0" y="935"/>
                  </a:lnTo>
                  <a:lnTo>
                    <a:pt x="2" y="78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Arial"/>
              </a:rPr>
              <a:t>Основные статистические</a:t>
            </a:r>
            <a:br>
              <a:rPr sz="4400"/>
            </a:br>
            <a:r>
              <a:rPr b="0" lang="en-US" sz="4400" spc="-1" strike="noStrike">
                <a:solidFill>
                  <a:srgbClr val="00ff00"/>
                </a:solidFill>
                <a:latin typeface="Arial"/>
              </a:rPr>
              <a:t>характерист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49c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49c2a"/>
                </a:solidFill>
                <a:latin typeface="Arial"/>
              </a:rPr>
              <a:t>Среднее арифметическ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49c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49c2a"/>
                </a:solidFill>
                <a:latin typeface="Arial"/>
              </a:rPr>
              <a:t>М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724000" y="1599840"/>
            <a:ext cx="3419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49c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49c2a"/>
                </a:solidFill>
                <a:latin typeface="Arial"/>
              </a:rPr>
              <a:t>Разма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49c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49c2a"/>
                </a:solidFill>
                <a:latin typeface="Arial"/>
              </a:rPr>
              <a:t>Медиа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124000" y="1628640"/>
            <a:ext cx="4536720" cy="2087640"/>
            <a:chOff x="2124000" y="1628640"/>
            <a:chExt cx="4536720" cy="2087640"/>
          </a:xfrm>
        </p:grpSpPr>
        <p:sp>
          <p:nvSpPr>
            <p:cNvPr id="62" name=""/>
            <p:cNvSpPr/>
            <p:nvPr/>
          </p:nvSpPr>
          <p:spPr>
            <a:xfrm rot="5400000">
              <a:off x="2628360" y="1531440"/>
              <a:ext cx="1922040" cy="2118600"/>
            </a:xfrm>
            <a:custGeom>
              <a:avLst/>
              <a:gdLst/>
              <a:ahLst/>
              <a:rect l="l" t="t" r="r" b="b"/>
              <a:pathLst>
                <a:path w="3026" h="1215">
                  <a:moveTo>
                    <a:pt x="0" y="0"/>
                  </a:moveTo>
                  <a:lnTo>
                    <a:pt x="126" y="0"/>
                  </a:lnTo>
                  <a:lnTo>
                    <a:pt x="234" y="3"/>
                  </a:lnTo>
                  <a:lnTo>
                    <a:pt x="353" y="8"/>
                  </a:lnTo>
                  <a:lnTo>
                    <a:pt x="473" y="12"/>
                  </a:lnTo>
                  <a:lnTo>
                    <a:pt x="604" y="21"/>
                  </a:lnTo>
                  <a:lnTo>
                    <a:pt x="731" y="32"/>
                  </a:lnTo>
                  <a:lnTo>
                    <a:pt x="843" y="41"/>
                  </a:lnTo>
                  <a:lnTo>
                    <a:pt x="969" y="54"/>
                  </a:lnTo>
                  <a:lnTo>
                    <a:pt x="1082" y="68"/>
                  </a:lnTo>
                  <a:lnTo>
                    <a:pt x="1186" y="81"/>
                  </a:lnTo>
                  <a:lnTo>
                    <a:pt x="1307" y="99"/>
                  </a:lnTo>
                  <a:lnTo>
                    <a:pt x="1452" y="126"/>
                  </a:lnTo>
                  <a:lnTo>
                    <a:pt x="1578" y="149"/>
                  </a:lnTo>
                  <a:lnTo>
                    <a:pt x="1718" y="180"/>
                  </a:lnTo>
                  <a:lnTo>
                    <a:pt x="1863" y="216"/>
                  </a:lnTo>
                  <a:lnTo>
                    <a:pt x="1998" y="252"/>
                  </a:lnTo>
                  <a:lnTo>
                    <a:pt x="2106" y="288"/>
                  </a:lnTo>
                  <a:lnTo>
                    <a:pt x="2242" y="333"/>
                  </a:lnTo>
                  <a:lnTo>
                    <a:pt x="2354" y="378"/>
                  </a:lnTo>
                  <a:lnTo>
                    <a:pt x="2453" y="418"/>
                  </a:lnTo>
                  <a:lnTo>
                    <a:pt x="2534" y="463"/>
                  </a:lnTo>
                  <a:lnTo>
                    <a:pt x="2615" y="504"/>
                  </a:lnTo>
                  <a:lnTo>
                    <a:pt x="2679" y="544"/>
                  </a:lnTo>
                  <a:lnTo>
                    <a:pt x="2733" y="580"/>
                  </a:lnTo>
                  <a:lnTo>
                    <a:pt x="2792" y="626"/>
                  </a:lnTo>
                  <a:lnTo>
                    <a:pt x="2850" y="671"/>
                  </a:lnTo>
                  <a:lnTo>
                    <a:pt x="2895" y="716"/>
                  </a:lnTo>
                  <a:lnTo>
                    <a:pt x="2959" y="801"/>
                  </a:lnTo>
                  <a:lnTo>
                    <a:pt x="2999" y="874"/>
                  </a:lnTo>
                  <a:lnTo>
                    <a:pt x="3008" y="905"/>
                  </a:lnTo>
                  <a:lnTo>
                    <a:pt x="3026" y="967"/>
                  </a:lnTo>
                  <a:lnTo>
                    <a:pt x="3026" y="1017"/>
                  </a:lnTo>
                  <a:lnTo>
                    <a:pt x="3026" y="1215"/>
                  </a:lnTo>
                  <a:lnTo>
                    <a:pt x="2900" y="1120"/>
                  </a:lnTo>
                  <a:lnTo>
                    <a:pt x="2295" y="684"/>
                  </a:lnTo>
                  <a:lnTo>
                    <a:pt x="1420" y="454"/>
                  </a:lnTo>
                  <a:lnTo>
                    <a:pt x="516" y="333"/>
                  </a:lnTo>
                  <a:lnTo>
                    <a:pt x="0" y="30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rot="5400000">
              <a:off x="2428200" y="3169800"/>
              <a:ext cx="653400" cy="43956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rot="5400000">
              <a:off x="2003760" y="3180600"/>
              <a:ext cx="653040" cy="412920"/>
            </a:xfrm>
            <a:custGeom>
              <a:avLst/>
              <a:gdLst/>
              <a:ahLst/>
              <a:rect l="l" t="t" r="r" b="b"/>
              <a:pathLst>
                <a:path w="1028" h="237">
                  <a:moveTo>
                    <a:pt x="0" y="0"/>
                  </a:moveTo>
                  <a:lnTo>
                    <a:pt x="1028" y="0"/>
                  </a:lnTo>
                  <a:lnTo>
                    <a:pt x="514" y="23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 rot="5400000">
              <a:off x="2392200" y="1774440"/>
              <a:ext cx="1919880" cy="1630080"/>
            </a:xfrm>
            <a:custGeom>
              <a:avLst/>
              <a:gdLst/>
              <a:ahLst/>
              <a:rect l="l" t="t" r="r" b="b"/>
              <a:pathLst>
                <a:path w="3023" h="935">
                  <a:moveTo>
                    <a:pt x="0" y="148"/>
                  </a:moveTo>
                  <a:lnTo>
                    <a:pt x="79" y="148"/>
                  </a:lnTo>
                  <a:lnTo>
                    <a:pt x="179" y="149"/>
                  </a:lnTo>
                  <a:lnTo>
                    <a:pt x="260" y="151"/>
                  </a:lnTo>
                  <a:lnTo>
                    <a:pt x="341" y="154"/>
                  </a:lnTo>
                  <a:lnTo>
                    <a:pt x="431" y="158"/>
                  </a:lnTo>
                  <a:lnTo>
                    <a:pt x="513" y="163"/>
                  </a:lnTo>
                  <a:lnTo>
                    <a:pt x="606" y="169"/>
                  </a:lnTo>
                  <a:lnTo>
                    <a:pt x="681" y="175"/>
                  </a:lnTo>
                  <a:lnTo>
                    <a:pt x="776" y="184"/>
                  </a:lnTo>
                  <a:lnTo>
                    <a:pt x="868" y="194"/>
                  </a:lnTo>
                  <a:lnTo>
                    <a:pt x="967" y="205"/>
                  </a:lnTo>
                  <a:lnTo>
                    <a:pt x="1050" y="217"/>
                  </a:lnTo>
                  <a:lnTo>
                    <a:pt x="1127" y="227"/>
                  </a:lnTo>
                  <a:lnTo>
                    <a:pt x="1214" y="240"/>
                  </a:lnTo>
                  <a:lnTo>
                    <a:pt x="1341" y="262"/>
                  </a:lnTo>
                  <a:lnTo>
                    <a:pt x="1456" y="286"/>
                  </a:lnTo>
                  <a:lnTo>
                    <a:pt x="1595" y="318"/>
                  </a:lnTo>
                  <a:lnTo>
                    <a:pt x="1685" y="342"/>
                  </a:lnTo>
                  <a:lnTo>
                    <a:pt x="1744" y="359"/>
                  </a:lnTo>
                  <a:lnTo>
                    <a:pt x="1857" y="393"/>
                  </a:lnTo>
                  <a:lnTo>
                    <a:pt x="1963" y="431"/>
                  </a:lnTo>
                  <a:lnTo>
                    <a:pt x="2042" y="461"/>
                  </a:lnTo>
                  <a:lnTo>
                    <a:pt x="2102" y="486"/>
                  </a:lnTo>
                  <a:lnTo>
                    <a:pt x="2168" y="518"/>
                  </a:lnTo>
                  <a:lnTo>
                    <a:pt x="2224" y="548"/>
                  </a:lnTo>
                  <a:lnTo>
                    <a:pt x="2271" y="575"/>
                  </a:lnTo>
                  <a:lnTo>
                    <a:pt x="2324" y="610"/>
                  </a:lnTo>
                  <a:lnTo>
                    <a:pt x="2370" y="643"/>
                  </a:lnTo>
                  <a:lnTo>
                    <a:pt x="2409" y="676"/>
                  </a:lnTo>
                  <a:lnTo>
                    <a:pt x="2444" y="706"/>
                  </a:lnTo>
                  <a:lnTo>
                    <a:pt x="2471" y="736"/>
                  </a:lnTo>
                  <a:lnTo>
                    <a:pt x="2492" y="763"/>
                  </a:lnTo>
                  <a:lnTo>
                    <a:pt x="2510" y="793"/>
                  </a:lnTo>
                  <a:lnTo>
                    <a:pt x="2525" y="820"/>
                  </a:lnTo>
                  <a:lnTo>
                    <a:pt x="2534" y="844"/>
                  </a:lnTo>
                  <a:lnTo>
                    <a:pt x="2545" y="876"/>
                  </a:lnTo>
                  <a:lnTo>
                    <a:pt x="2549" y="905"/>
                  </a:lnTo>
                  <a:lnTo>
                    <a:pt x="2551" y="935"/>
                  </a:lnTo>
                  <a:lnTo>
                    <a:pt x="3023" y="935"/>
                  </a:lnTo>
                  <a:lnTo>
                    <a:pt x="3019" y="887"/>
                  </a:lnTo>
                  <a:lnTo>
                    <a:pt x="3010" y="846"/>
                  </a:lnTo>
                  <a:lnTo>
                    <a:pt x="2998" y="811"/>
                  </a:lnTo>
                  <a:lnTo>
                    <a:pt x="2983" y="783"/>
                  </a:lnTo>
                  <a:lnTo>
                    <a:pt x="2966" y="753"/>
                  </a:lnTo>
                  <a:lnTo>
                    <a:pt x="2942" y="720"/>
                  </a:lnTo>
                  <a:lnTo>
                    <a:pt x="2921" y="694"/>
                  </a:lnTo>
                  <a:lnTo>
                    <a:pt x="2886" y="658"/>
                  </a:lnTo>
                  <a:lnTo>
                    <a:pt x="2852" y="626"/>
                  </a:lnTo>
                  <a:lnTo>
                    <a:pt x="2816" y="595"/>
                  </a:lnTo>
                  <a:lnTo>
                    <a:pt x="2773" y="563"/>
                  </a:lnTo>
                  <a:lnTo>
                    <a:pt x="2736" y="537"/>
                  </a:lnTo>
                  <a:lnTo>
                    <a:pt x="2674" y="500"/>
                  </a:lnTo>
                  <a:lnTo>
                    <a:pt x="2614" y="465"/>
                  </a:lnTo>
                  <a:lnTo>
                    <a:pt x="2524" y="422"/>
                  </a:lnTo>
                  <a:lnTo>
                    <a:pt x="2435" y="383"/>
                  </a:lnTo>
                  <a:lnTo>
                    <a:pt x="2345" y="347"/>
                  </a:lnTo>
                  <a:lnTo>
                    <a:pt x="2264" y="317"/>
                  </a:lnTo>
                  <a:lnTo>
                    <a:pt x="2150" y="279"/>
                  </a:lnTo>
                  <a:lnTo>
                    <a:pt x="2019" y="240"/>
                  </a:lnTo>
                  <a:lnTo>
                    <a:pt x="1888" y="208"/>
                  </a:lnTo>
                  <a:lnTo>
                    <a:pt x="1769" y="181"/>
                  </a:lnTo>
                  <a:lnTo>
                    <a:pt x="1688" y="163"/>
                  </a:lnTo>
                  <a:lnTo>
                    <a:pt x="1587" y="142"/>
                  </a:lnTo>
                  <a:lnTo>
                    <a:pt x="1514" y="128"/>
                  </a:lnTo>
                  <a:lnTo>
                    <a:pt x="1431" y="115"/>
                  </a:lnTo>
                  <a:lnTo>
                    <a:pt x="1347" y="101"/>
                  </a:lnTo>
                  <a:lnTo>
                    <a:pt x="1265" y="89"/>
                  </a:lnTo>
                  <a:lnTo>
                    <a:pt x="1157" y="74"/>
                  </a:lnTo>
                  <a:lnTo>
                    <a:pt x="1062" y="64"/>
                  </a:lnTo>
                  <a:lnTo>
                    <a:pt x="960" y="52"/>
                  </a:lnTo>
                  <a:lnTo>
                    <a:pt x="838" y="40"/>
                  </a:lnTo>
                  <a:lnTo>
                    <a:pt x="716" y="29"/>
                  </a:lnTo>
                  <a:lnTo>
                    <a:pt x="618" y="23"/>
                  </a:lnTo>
                  <a:lnTo>
                    <a:pt x="505" y="15"/>
                  </a:lnTo>
                  <a:lnTo>
                    <a:pt x="386" y="11"/>
                  </a:lnTo>
                  <a:lnTo>
                    <a:pt x="225" y="5"/>
                  </a:lnTo>
                  <a:lnTo>
                    <a:pt x="79" y="3"/>
                  </a:lnTo>
                  <a:lnTo>
                    <a:pt x="0" y="0"/>
                  </a:lnTo>
                  <a:lnTo>
                    <a:pt x="0" y="14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rot="5400000">
              <a:off x="4233600" y="1530720"/>
              <a:ext cx="1922760" cy="2118240"/>
            </a:xfrm>
            <a:custGeom>
              <a:avLst/>
              <a:gdLst/>
              <a:ahLst/>
              <a:rect l="l" t="t" r="r" b="b"/>
              <a:pathLst>
                <a:path w="3027" h="1215">
                  <a:moveTo>
                    <a:pt x="0" y="1215"/>
                  </a:moveTo>
                  <a:lnTo>
                    <a:pt x="126" y="1215"/>
                  </a:lnTo>
                  <a:lnTo>
                    <a:pt x="235" y="1212"/>
                  </a:lnTo>
                  <a:lnTo>
                    <a:pt x="354" y="1207"/>
                  </a:lnTo>
                  <a:lnTo>
                    <a:pt x="474" y="1203"/>
                  </a:lnTo>
                  <a:lnTo>
                    <a:pt x="605" y="1194"/>
                  </a:lnTo>
                  <a:lnTo>
                    <a:pt x="731" y="1183"/>
                  </a:lnTo>
                  <a:lnTo>
                    <a:pt x="843" y="1174"/>
                  </a:lnTo>
                  <a:lnTo>
                    <a:pt x="969" y="1161"/>
                  </a:lnTo>
                  <a:lnTo>
                    <a:pt x="1082" y="1147"/>
                  </a:lnTo>
                  <a:lnTo>
                    <a:pt x="1186" y="1134"/>
                  </a:lnTo>
                  <a:lnTo>
                    <a:pt x="1308" y="1116"/>
                  </a:lnTo>
                  <a:lnTo>
                    <a:pt x="1452" y="1089"/>
                  </a:lnTo>
                  <a:lnTo>
                    <a:pt x="1579" y="1066"/>
                  </a:lnTo>
                  <a:lnTo>
                    <a:pt x="1719" y="1035"/>
                  </a:lnTo>
                  <a:lnTo>
                    <a:pt x="1863" y="999"/>
                  </a:lnTo>
                  <a:lnTo>
                    <a:pt x="1999" y="963"/>
                  </a:lnTo>
                  <a:lnTo>
                    <a:pt x="2107" y="927"/>
                  </a:lnTo>
                  <a:lnTo>
                    <a:pt x="2242" y="882"/>
                  </a:lnTo>
                  <a:lnTo>
                    <a:pt x="2354" y="837"/>
                  </a:lnTo>
                  <a:lnTo>
                    <a:pt x="2453" y="797"/>
                  </a:lnTo>
                  <a:lnTo>
                    <a:pt x="2535" y="752"/>
                  </a:lnTo>
                  <a:lnTo>
                    <a:pt x="2616" y="711"/>
                  </a:lnTo>
                  <a:lnTo>
                    <a:pt x="2679" y="671"/>
                  </a:lnTo>
                  <a:lnTo>
                    <a:pt x="2733" y="635"/>
                  </a:lnTo>
                  <a:lnTo>
                    <a:pt x="2792" y="589"/>
                  </a:lnTo>
                  <a:lnTo>
                    <a:pt x="2851" y="544"/>
                  </a:lnTo>
                  <a:lnTo>
                    <a:pt x="2896" y="499"/>
                  </a:lnTo>
                  <a:lnTo>
                    <a:pt x="2959" y="414"/>
                  </a:lnTo>
                  <a:lnTo>
                    <a:pt x="3000" y="341"/>
                  </a:lnTo>
                  <a:lnTo>
                    <a:pt x="3009" y="310"/>
                  </a:lnTo>
                  <a:lnTo>
                    <a:pt x="3027" y="248"/>
                  </a:lnTo>
                  <a:lnTo>
                    <a:pt x="3027" y="198"/>
                  </a:lnTo>
                  <a:lnTo>
                    <a:pt x="3027" y="0"/>
                  </a:lnTo>
                  <a:lnTo>
                    <a:pt x="2900" y="95"/>
                  </a:lnTo>
                  <a:lnTo>
                    <a:pt x="2296" y="531"/>
                  </a:lnTo>
                  <a:lnTo>
                    <a:pt x="1421" y="761"/>
                  </a:lnTo>
                  <a:lnTo>
                    <a:pt x="516" y="882"/>
                  </a:lnTo>
                  <a:lnTo>
                    <a:pt x="0" y="909"/>
                  </a:lnTo>
                  <a:lnTo>
                    <a:pt x="0" y="1215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 rot="5400000">
              <a:off x="5701680" y="3168720"/>
              <a:ext cx="652680" cy="4392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rot="5400000">
              <a:off x="6127920" y="3179880"/>
              <a:ext cx="652320" cy="412920"/>
            </a:xfrm>
            <a:custGeom>
              <a:avLst/>
              <a:gdLst/>
              <a:ahLst/>
              <a:rect l="l" t="t" r="r" b="b"/>
              <a:pathLst>
                <a:path w="1027" h="237">
                  <a:moveTo>
                    <a:pt x="0" y="237"/>
                  </a:moveTo>
                  <a:lnTo>
                    <a:pt x="1027" y="237"/>
                  </a:lnTo>
                  <a:lnTo>
                    <a:pt x="513" y="0"/>
                  </a:lnTo>
                  <a:lnTo>
                    <a:pt x="0" y="23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5400000">
              <a:off x="4472280" y="1773720"/>
              <a:ext cx="1920600" cy="1630080"/>
            </a:xfrm>
            <a:custGeom>
              <a:avLst/>
              <a:gdLst/>
              <a:ahLst/>
              <a:rect l="l" t="t" r="r" b="b"/>
              <a:pathLst>
                <a:path w="3024" h="935">
                  <a:moveTo>
                    <a:pt x="2" y="789"/>
                  </a:moveTo>
                  <a:lnTo>
                    <a:pt x="80" y="787"/>
                  </a:lnTo>
                  <a:lnTo>
                    <a:pt x="179" y="786"/>
                  </a:lnTo>
                  <a:lnTo>
                    <a:pt x="260" y="784"/>
                  </a:lnTo>
                  <a:lnTo>
                    <a:pt x="342" y="781"/>
                  </a:lnTo>
                  <a:lnTo>
                    <a:pt x="432" y="777"/>
                  </a:lnTo>
                  <a:lnTo>
                    <a:pt x="513" y="772"/>
                  </a:lnTo>
                  <a:lnTo>
                    <a:pt x="606" y="766"/>
                  </a:lnTo>
                  <a:lnTo>
                    <a:pt x="682" y="760"/>
                  </a:lnTo>
                  <a:lnTo>
                    <a:pt x="777" y="751"/>
                  </a:lnTo>
                  <a:lnTo>
                    <a:pt x="869" y="741"/>
                  </a:lnTo>
                  <a:lnTo>
                    <a:pt x="968" y="730"/>
                  </a:lnTo>
                  <a:lnTo>
                    <a:pt x="1051" y="718"/>
                  </a:lnTo>
                  <a:lnTo>
                    <a:pt x="1127" y="708"/>
                  </a:lnTo>
                  <a:lnTo>
                    <a:pt x="1215" y="695"/>
                  </a:lnTo>
                  <a:lnTo>
                    <a:pt x="1341" y="673"/>
                  </a:lnTo>
                  <a:lnTo>
                    <a:pt x="1457" y="649"/>
                  </a:lnTo>
                  <a:lnTo>
                    <a:pt x="1595" y="617"/>
                  </a:lnTo>
                  <a:lnTo>
                    <a:pt x="1686" y="593"/>
                  </a:lnTo>
                  <a:lnTo>
                    <a:pt x="1744" y="576"/>
                  </a:lnTo>
                  <a:lnTo>
                    <a:pt x="1857" y="542"/>
                  </a:lnTo>
                  <a:lnTo>
                    <a:pt x="1964" y="504"/>
                  </a:lnTo>
                  <a:lnTo>
                    <a:pt x="2042" y="474"/>
                  </a:lnTo>
                  <a:lnTo>
                    <a:pt x="2102" y="449"/>
                  </a:lnTo>
                  <a:lnTo>
                    <a:pt x="2169" y="417"/>
                  </a:lnTo>
                  <a:lnTo>
                    <a:pt x="2224" y="387"/>
                  </a:lnTo>
                  <a:lnTo>
                    <a:pt x="2271" y="360"/>
                  </a:lnTo>
                  <a:lnTo>
                    <a:pt x="2324" y="325"/>
                  </a:lnTo>
                  <a:lnTo>
                    <a:pt x="2371" y="292"/>
                  </a:lnTo>
                  <a:lnTo>
                    <a:pt x="2410" y="259"/>
                  </a:lnTo>
                  <a:lnTo>
                    <a:pt x="2444" y="229"/>
                  </a:lnTo>
                  <a:lnTo>
                    <a:pt x="2472" y="199"/>
                  </a:lnTo>
                  <a:lnTo>
                    <a:pt x="2493" y="172"/>
                  </a:lnTo>
                  <a:lnTo>
                    <a:pt x="2511" y="142"/>
                  </a:lnTo>
                  <a:lnTo>
                    <a:pt x="2526" y="115"/>
                  </a:lnTo>
                  <a:lnTo>
                    <a:pt x="2535" y="91"/>
                  </a:lnTo>
                  <a:lnTo>
                    <a:pt x="2545" y="59"/>
                  </a:lnTo>
                  <a:lnTo>
                    <a:pt x="2550" y="30"/>
                  </a:lnTo>
                  <a:lnTo>
                    <a:pt x="2551" y="0"/>
                  </a:lnTo>
                  <a:lnTo>
                    <a:pt x="3024" y="0"/>
                  </a:lnTo>
                  <a:lnTo>
                    <a:pt x="3019" y="48"/>
                  </a:lnTo>
                  <a:lnTo>
                    <a:pt x="3010" y="89"/>
                  </a:lnTo>
                  <a:lnTo>
                    <a:pt x="2998" y="124"/>
                  </a:lnTo>
                  <a:lnTo>
                    <a:pt x="2983" y="152"/>
                  </a:lnTo>
                  <a:lnTo>
                    <a:pt x="2967" y="182"/>
                  </a:lnTo>
                  <a:lnTo>
                    <a:pt x="2942" y="215"/>
                  </a:lnTo>
                  <a:lnTo>
                    <a:pt x="2921" y="241"/>
                  </a:lnTo>
                  <a:lnTo>
                    <a:pt x="2887" y="277"/>
                  </a:lnTo>
                  <a:lnTo>
                    <a:pt x="2852" y="309"/>
                  </a:lnTo>
                  <a:lnTo>
                    <a:pt x="2816" y="340"/>
                  </a:lnTo>
                  <a:lnTo>
                    <a:pt x="2774" y="372"/>
                  </a:lnTo>
                  <a:lnTo>
                    <a:pt x="2736" y="398"/>
                  </a:lnTo>
                  <a:lnTo>
                    <a:pt x="2675" y="435"/>
                  </a:lnTo>
                  <a:lnTo>
                    <a:pt x="2614" y="470"/>
                  </a:lnTo>
                  <a:lnTo>
                    <a:pt x="2524" y="513"/>
                  </a:lnTo>
                  <a:lnTo>
                    <a:pt x="2435" y="552"/>
                  </a:lnTo>
                  <a:lnTo>
                    <a:pt x="2345" y="588"/>
                  </a:lnTo>
                  <a:lnTo>
                    <a:pt x="2265" y="618"/>
                  </a:lnTo>
                  <a:lnTo>
                    <a:pt x="2151" y="656"/>
                  </a:lnTo>
                  <a:lnTo>
                    <a:pt x="2020" y="695"/>
                  </a:lnTo>
                  <a:lnTo>
                    <a:pt x="1889" y="727"/>
                  </a:lnTo>
                  <a:lnTo>
                    <a:pt x="1770" y="754"/>
                  </a:lnTo>
                  <a:lnTo>
                    <a:pt x="1689" y="772"/>
                  </a:lnTo>
                  <a:lnTo>
                    <a:pt x="1588" y="793"/>
                  </a:lnTo>
                  <a:lnTo>
                    <a:pt x="1514" y="807"/>
                  </a:lnTo>
                  <a:lnTo>
                    <a:pt x="1431" y="820"/>
                  </a:lnTo>
                  <a:lnTo>
                    <a:pt x="1347" y="834"/>
                  </a:lnTo>
                  <a:lnTo>
                    <a:pt x="1266" y="846"/>
                  </a:lnTo>
                  <a:lnTo>
                    <a:pt x="1158" y="861"/>
                  </a:lnTo>
                  <a:lnTo>
                    <a:pt x="1063" y="871"/>
                  </a:lnTo>
                  <a:lnTo>
                    <a:pt x="960" y="883"/>
                  </a:lnTo>
                  <a:lnTo>
                    <a:pt x="839" y="895"/>
                  </a:lnTo>
                  <a:lnTo>
                    <a:pt x="716" y="906"/>
                  </a:lnTo>
                  <a:lnTo>
                    <a:pt x="618" y="912"/>
                  </a:lnTo>
                  <a:lnTo>
                    <a:pt x="506" y="920"/>
                  </a:lnTo>
                  <a:lnTo>
                    <a:pt x="387" y="924"/>
                  </a:lnTo>
                  <a:lnTo>
                    <a:pt x="226" y="930"/>
                  </a:lnTo>
                  <a:lnTo>
                    <a:pt x="80" y="932"/>
                  </a:lnTo>
                  <a:lnTo>
                    <a:pt x="0" y="935"/>
                  </a:lnTo>
                  <a:lnTo>
                    <a:pt x="2" y="78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Средним арифметически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ряда чисел называется частное от деления суммы этих чисел на их количе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мер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фермерском хозяйстве отведены под пшеницу три участка,  площади  которых равны 12 га, 8 га,6 г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редняя урожайнос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 1участке равна 18 ц с 1 г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 2 участке – 19 ц с 1 г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 3 участке23 ц с 1 г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Чему равна средняя урожайность пшеницы  в этом хозяйстве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47560" y="313920"/>
            <a:ext cx="8020080" cy="1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549360"/>
            <a:ext cx="822960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газете « Ровеньская Нива» каждую неделю подводится итог  положения дел в район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редняя урожайность  пшеницы с 1 га в райо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реднесуточный удой на фермах в от 1 коровы по колхозам райо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мографическая политика: смертность и рождаемость по району в средн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Модо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49c2a"/>
                </a:solidFill>
                <a:latin typeface="Arial"/>
              </a:rPr>
              <a:t>обычно называется число ряда, которое встречается в этом ряду наиболее част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яд данных может  1 и более мод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веду  пример ряда, имеющего более одной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д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Пример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При продаже платьев на выпускной бал    в определенный день продали платья размеров </a:t>
            </a:r>
            <a:r>
              <a:rPr b="0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44,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 42, 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48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, 50, </a:t>
            </a:r>
            <a:r>
              <a:rPr b="0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44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, 46, 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48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, 5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исла 44 и 48 встречается два раза, а остальные числа — менее двух раз. В таких случаях условились считать, что ряд имеет две моды: 44 и 48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Мода»  относится не только к числовым данны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мер. Среди учащихся 5 класса,где учатся 9 человек,  был проведен опрос, каким видом спорта предпочитают заниматься на секциях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Ответы были таковы:  баскетбол, баскетбол,  волейбол,   баскетбол, тенис, волейбол , волейбол шахматы,  баскетбо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Что  является «модой»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6T17:03:32Z</dcterms:created>
  <dc:creator>Орбита</dc:creator>
  <dc:description/>
  <dc:language>en-US</dc:language>
  <cp:lastModifiedBy>Орбита</cp:lastModifiedBy>
  <dcterms:modified xsi:type="dcterms:W3CDTF">2009-10-26T17:03:46Z</dcterms:modified>
  <cp:revision>1</cp:revision>
  <dc:subject/>
  <dc:title>Вероятностно-статистический  материал   на второй ступени общего  образования.</dc:title>
</cp:coreProperties>
</file>