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5.gif" ContentType="image/gif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13.wmf" ContentType="image/x-wmf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495-FA61-4BF3-AFA5-A1DBCB45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107-3E32-41C8-8DFB-D8C757C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9F9-789D-490D-88D9-64C48EC0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F50-837D-4065-AF50-13BDD23F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81A-848C-46B2-84ED-438C4107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8CD-6ECB-45AB-95FC-E16CCC7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65D-F586-4409-9C73-16863A91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84B-BFD6-4513-A5FD-8502F36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FA8-C594-4EE6-BF94-E94E9D6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910-3821-446D-A47B-1DC75C8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51D-E926-4C26-92E5-B25C405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94D-F218-47AB-9342-2BDBBC6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50C-80EA-4391-8C77-F7DAC7428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5.gif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0040" y="142920"/>
            <a:ext cx="82915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урс проектов : «Математика вокруг н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номин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Arial"/>
              </a:rPr>
              <a:t>Авторов проекта</a:t>
            </a:r>
            <a:r>
              <a:rPr b="1" lang="ru-RU" sz="1800" spc="-1" strike="noStrike">
                <a:solidFill>
                  <a:srgbClr val="cc00ff"/>
                </a:solidFill>
                <a:latin typeface="Arial Rounded MT Bold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Поддубная 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Ученица 11 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МБОУ «Нагорьевская 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Ровен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Arial"/>
              </a:rPr>
              <a:t>Руководитель</a:t>
            </a:r>
            <a:r>
              <a:rPr b="1" lang="ru-RU" sz="1800" spc="-1" strike="noStrike">
                <a:solidFill>
                  <a:srgbClr val="cc00ff"/>
                </a:solidFill>
                <a:latin typeface="Arial Rounded MT Bold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Поддубная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Rounded MT Bold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1557360"/>
            <a:ext cx="511344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енефис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й задач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24273c28bd73"/>
          <p:cNvPicPr/>
          <p:nvPr/>
        </p:nvPicPr>
        <p:blipFill>
          <a:blip r:embed="rId1"/>
          <a:stretch/>
        </p:blipFill>
        <p:spPr>
          <a:xfrm>
            <a:off x="6084720" y="3933720"/>
            <a:ext cx="2590920" cy="2551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predmety_raznie011.gif"/>
          <p:cNvPicPr/>
          <p:nvPr/>
        </p:nvPicPr>
        <p:blipFill>
          <a:blip r:embed="rId2"/>
          <a:stretch/>
        </p:blipFill>
        <p:spPr>
          <a:xfrm>
            <a:off x="324000" y="1916280"/>
            <a:ext cx="142848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84 0.02845 L -0.0026 0.07054 E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26 0.07054 C 0.00052 0.07054 0.00347 0.07262 0.00347 0.07563 C 0.00347 0.0784 0.00052 0.08094 -0.0026 0.08094 C -0.0059 0.08094 -0.00833 0.0784 -0.00833 0.07563 C -0.00833 0.07262 -0.0059 0.07054 -0.0026 0.07054 Z">
                                      <p:cBhvr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борник по математике подготовки к ЕГЭ 2012, Легион-М, Ростов на Дону,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правочник по высшей математике, М.Я. Выгодский,197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еометрия 7-9, А.В.Погорелов, Москва, Просвещение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нига для учителя «Спасибо за урок, дети!» (из опыта работы), А.А.Окунев, Москва, Просвещение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thege.ru:8080/or/ege/ShowProblem.html?probId=51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йт «Открытый банк заданий по математик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thege.ru:8080/or/ege/ShowProblems.html?posMask=32&amp;showProto=tru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прототипы задания В6, сайт «ОБЗ по математик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786040" y="571680"/>
            <a:ext cx="3714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Стрелка вправо с вырезом 3"/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о сборника ЕГЭ 2012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Arial"/>
              </a:rPr>
              <a:t>Для успешного изучения геометрии  необходимо знать не только основные  формулы и теоремы, но и владеть различными методами  решения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дание В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ти площадь  треугольника, вершины которого имеют координаты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1;4),  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4;10),   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6;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d07139_"/>
          <p:cNvPicPr/>
          <p:nvPr/>
        </p:nvPicPr>
        <p:blipFill>
          <a:blip r:embed="rId1"/>
          <a:stretch/>
        </p:blipFill>
        <p:spPr>
          <a:xfrm>
            <a:off x="2627280" y="2637000"/>
            <a:ext cx="29527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99680" y="1357200"/>
            <a:ext cx="81154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шение задачи со сборника ЕГЭ 201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9933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339933"/>
                </a:solidFill>
                <a:latin typeface="Arial"/>
              </a:rPr>
              <a:t>( с помощью определителя второго порядка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9933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339933"/>
                </a:solidFill>
                <a:latin typeface="Arial"/>
              </a:rPr>
              <a:t>Построить в координатной плоскости треугольник и решить зада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Успехов при подготовке к ЕГЭ по математик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Удачной сдачи экзаме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>
            <a:hlinkClick r:id="rId1" action="ppaction://hlinksldjump"/>
          </p:cNvPr>
          <p:cNvSpPr/>
          <p:nvPr/>
        </p:nvSpPr>
        <p:spPr>
          <a:xfrm>
            <a:off x="940320" y="200016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 спос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лгебра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43360" y="499680"/>
            <a:ext cx="311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c0099"/>
                </a:solidFill>
                <a:latin typeface="Arial"/>
              </a:rPr>
              <a:t>Нет ничего дороже для человека того, чтобы уметь мыслить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Л.Н.Толстой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>
            <a:hlinkClick r:id="rId2" action="ppaction://hlinksldjump"/>
          </p:cNvPr>
          <p:cNvSpPr/>
          <p:nvPr/>
        </p:nvSpPr>
        <p:spPr>
          <a:xfrm>
            <a:off x="928800" y="278604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 спос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Геометрически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>
            <a:hlinkClick r:id="rId3" action="ppaction://hlinksldjump"/>
          </p:cNvPr>
          <p:cNvSpPr/>
          <p:nvPr/>
        </p:nvSpPr>
        <p:spPr>
          <a:xfrm>
            <a:off x="2121480" y="3500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1«Формула площади треуголь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>
            <a:hlinkClick r:id="rId4" action="ppaction://hlinksldjump"/>
          </p:cNvPr>
          <p:cNvSpPr/>
          <p:nvPr/>
        </p:nvSpPr>
        <p:spPr>
          <a:xfrm>
            <a:off x="2049480" y="37861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2 «Сложение площад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>
            <a:hlinkClick r:id="rId5" action="ppaction://hlinksldjump"/>
          </p:cNvPr>
          <p:cNvSpPr/>
          <p:nvPr/>
        </p:nvSpPr>
        <p:spPr>
          <a:xfrm>
            <a:off x="2088360" y="4071960"/>
            <a:ext cx="3141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3 «Вычитание площад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5">
            <a:hlinkClick r:id="rId6" action="ppaction://hlinksldjump"/>
          </p:cNvPr>
          <p:cNvSpPr/>
          <p:nvPr/>
        </p:nvSpPr>
        <p:spPr>
          <a:xfrm>
            <a:off x="1005840" y="4429080"/>
            <a:ext cx="358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 спос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гонометр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6280" y="357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Способы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tia-824"/>
          <p:cNvPicPr/>
          <p:nvPr/>
        </p:nvPicPr>
        <p:blipFill>
          <a:blip r:embed="rId7"/>
          <a:stretch/>
        </p:blipFill>
        <p:spPr>
          <a:xfrm>
            <a:off x="6357960" y="3429000"/>
            <a:ext cx="1552680" cy="1125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>
            <a:hlinkClick r:id="rId8" action="ppaction://hlinksldjump"/>
          </p:cNvPr>
          <p:cNvSpPr/>
          <p:nvPr/>
        </p:nvSpPr>
        <p:spPr>
          <a:xfrm>
            <a:off x="228600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>
            <a:hlinkClick r:id="rId9" action="ppaction://hlinksldjump"/>
          </p:cNvPr>
          <p:cNvSpPr/>
          <p:nvPr/>
        </p:nvSpPr>
        <p:spPr>
          <a:xfrm>
            <a:off x="428616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с вырезом 15">
            <a:hlinkClick r:id="rId10" action="ppaction://hlinksldjump"/>
          </p:cNvPr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6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способ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С помощью определителя второго поряд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Теор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усть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–вершины треугольника, тогда его площадь  выражается форму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½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 правой части стоит определитель второго порядка, который вычисляем по формуле (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(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(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). Площадь всегда полож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;4),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4;10),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6;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1-6     4-4    =   -5   0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-6   10-4        -2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-5*6-0*(-2))) =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-30-0) =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*(-30)=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еимущества спос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ться самообразованием при решении проблемы, учиться работать с математическими источниками   (справочник по высшей математи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.Я. Выгодский,1973). Можно не выполнять черте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knigi-68"/>
          <p:cNvPicPr/>
          <p:nvPr/>
        </p:nvPicPr>
        <p:blipFill>
          <a:blip r:embed="rId1"/>
          <a:stretch/>
        </p:blipFill>
        <p:spPr>
          <a:xfrm>
            <a:off x="6084720" y="3471840"/>
            <a:ext cx="165600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>
            <a:hlinkClick r:id="rId2" action="ppaction://hlinksldjump"/>
          </p:cNvPr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6"/>
          <p:cNvSpPr/>
          <p:nvPr/>
        </p:nvSpPr>
        <p:spPr>
          <a:xfrm flipH="1">
            <a:off x="2571840" y="185724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"/>
          <p:cNvSpPr/>
          <p:nvPr/>
        </p:nvSpPr>
        <p:spPr>
          <a:xfrm flipH="1">
            <a:off x="4142880" y="1857240"/>
            <a:ext cx="18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8"/>
          <p:cNvSpPr/>
          <p:nvPr/>
        </p:nvSpPr>
        <p:spPr>
          <a:xfrm flipH="1">
            <a:off x="2071800" y="37861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9"/>
          <p:cNvSpPr/>
          <p:nvPr/>
        </p:nvSpPr>
        <p:spPr>
          <a:xfrm flipH="1">
            <a:off x="3071880" y="37861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0"/>
          <p:cNvSpPr/>
          <p:nvPr/>
        </p:nvSpPr>
        <p:spPr>
          <a:xfrm flipH="1">
            <a:off x="3429000" y="37861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1"/>
          <p:cNvSpPr/>
          <p:nvPr/>
        </p:nvSpPr>
        <p:spPr>
          <a:xfrm flipH="1">
            <a:off x="4071960" y="37861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способ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формулы площади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остроим в координатной плоскости треугольн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лощадь треугольника найдем по формул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=(а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/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 – основание треугольни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ная к этому осн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а =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=(6•5)/2=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.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340000" y="39337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240000" cy="22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17"/>
          <p:cNvGraphicFramePr/>
          <p:nvPr/>
        </p:nvGraphicFramePr>
        <p:xfrm>
          <a:off x="5651640" y="2060640"/>
          <a:ext cx="2260440" cy="20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060640"/>
                    <a:ext cx="22604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Стрелка вправо с вырезом 6">
            <a:hlinkClick r:id="rId4" action="ppaction://hlinksldjump"/>
          </p:cNvPr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способ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Сложение площад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из вершины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соту, она разобьет треугольник на два прямоугольных треугольника с площадя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(3Х6)/2=9,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(2Х6)/2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искомого треугольника найдем по формуле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9+6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 Ответ: 1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.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 flipH="1" flipV="1">
            <a:off x="755640" y="6093000"/>
            <a:ext cx="193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7093080" y="33336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302400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knigi-186"/>
          <p:cNvPicPr/>
          <p:nvPr/>
        </p:nvPicPr>
        <p:blipFill>
          <a:blip r:embed="rId2"/>
          <a:stretch/>
        </p:blipFill>
        <p:spPr>
          <a:xfrm>
            <a:off x="6372360" y="2060640"/>
            <a:ext cx="171612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Стрелка вправо с вырезом 7">
            <a:hlinkClick r:id="rId3" action="ppaction://hlinksldjump"/>
          </p:cNvPr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4 способ</a:t>
            </a:r>
            <a:br>
              <a:rPr sz="2400"/>
            </a:b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«Вычитание площад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Найдем площадь трапеции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+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)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а  и в - основания трапеци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ысота 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((6+4)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йдем площадь трапеции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((4+1)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лощадь искомого треугольника найдем по формуле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=30-15=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вет: 1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.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7308720" y="476280"/>
            <a:ext cx="171792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0d7bfbb42edcbbc148491e5164e3ef67"/>
          <p:cNvPicPr/>
          <p:nvPr/>
        </p:nvPicPr>
        <p:blipFill>
          <a:blip r:embed="rId1"/>
          <a:stretch/>
        </p:blipFill>
        <p:spPr>
          <a:xfrm>
            <a:off x="6372360" y="1557360"/>
            <a:ext cx="1877760" cy="20145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с вырезом 6"/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2791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5 способ</a:t>
            </a:r>
            <a:br>
              <a:rPr sz="2400"/>
            </a:b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Тригономет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площадь треугольника по формуле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. = 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*а*в*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, в-стороны треугольника, х-угол между этими стор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Найдем координаты вектора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;6),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;-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 формуле расстояние между двумя точками найдем длины отрезков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5,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0, 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 теореме косинусов найд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сновному тригонометрическому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ждеству найд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меним форму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.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.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*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5*5*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вет: 15 кв.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324000" y="476280"/>
            <a:ext cx="8686800" cy="5486400"/>
            <a:chOff x="324000" y="476280"/>
            <a:chExt cx="8686800" cy="5486400"/>
          </a:xfrm>
        </p:grpSpPr>
        <p:grpSp>
          <p:nvGrpSpPr>
            <p:cNvPr id="94" name="Group 6"/>
            <p:cNvGrpSpPr/>
            <p:nvPr/>
          </p:nvGrpSpPr>
          <p:grpSpPr>
            <a:xfrm>
              <a:off x="473040" y="476280"/>
              <a:ext cx="1278000" cy="916200"/>
              <a:chOff x="473040" y="476280"/>
              <a:chExt cx="1278000" cy="916200"/>
            </a:xfrm>
          </p:grpSpPr>
          <p:sp>
            <p:nvSpPr>
              <p:cNvPr id="95" name="Freeform 7"/>
              <p:cNvSpPr/>
              <p:nvPr/>
            </p:nvSpPr>
            <p:spPr>
              <a:xfrm flipH="1">
                <a:off x="1524960" y="882720"/>
                <a:ext cx="134280" cy="1512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 flipH="1">
                <a:off x="720000" y="1182600"/>
                <a:ext cx="1016640" cy="191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"/>
              <p:cNvSpPr/>
              <p:nvPr/>
            </p:nvSpPr>
            <p:spPr>
              <a:xfrm flipH="1">
                <a:off x="473040" y="476280"/>
                <a:ext cx="1278000" cy="916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 flipH="1">
                <a:off x="518760" y="847080"/>
                <a:ext cx="216720" cy="4726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 flipH="1">
                <a:off x="1126080" y="493560"/>
                <a:ext cx="399960" cy="294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 flipH="1">
                <a:off x="1305720" y="504000"/>
                <a:ext cx="82080" cy="1749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3"/>
              <p:cNvSpPr/>
              <p:nvPr/>
            </p:nvSpPr>
            <p:spPr>
              <a:xfrm flipH="1">
                <a:off x="1211040" y="570240"/>
                <a:ext cx="72360" cy="874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4"/>
              <p:cNvSpPr/>
              <p:nvPr/>
            </p:nvSpPr>
            <p:spPr>
              <a:xfrm flipH="1">
                <a:off x="1180440" y="581760"/>
                <a:ext cx="66960" cy="74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5"/>
              <p:cNvSpPr/>
              <p:nvPr/>
            </p:nvSpPr>
            <p:spPr>
              <a:xfrm flipH="1">
                <a:off x="1161360" y="596880"/>
                <a:ext cx="55080" cy="47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6"/>
              <p:cNvSpPr/>
              <p:nvPr/>
            </p:nvSpPr>
            <p:spPr>
              <a:xfrm flipH="1">
                <a:off x="1044360" y="596880"/>
                <a:ext cx="318960" cy="348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7"/>
              <p:cNvSpPr/>
              <p:nvPr/>
            </p:nvSpPr>
            <p:spPr>
              <a:xfrm flipH="1">
                <a:off x="1071000" y="608040"/>
                <a:ext cx="56520" cy="925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8"/>
              <p:cNvSpPr/>
              <p:nvPr/>
            </p:nvSpPr>
            <p:spPr>
              <a:xfrm flipH="1">
                <a:off x="1146600" y="612000"/>
                <a:ext cx="54000" cy="417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9"/>
              <p:cNvSpPr/>
              <p:nvPr/>
            </p:nvSpPr>
            <p:spPr>
              <a:xfrm flipH="1">
                <a:off x="1386000" y="632160"/>
                <a:ext cx="98280" cy="774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0"/>
              <p:cNvSpPr/>
              <p:nvPr/>
            </p:nvSpPr>
            <p:spPr>
              <a:xfrm flipH="1">
                <a:off x="1431000" y="657720"/>
                <a:ext cx="69840" cy="54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1"/>
              <p:cNvSpPr/>
              <p:nvPr/>
            </p:nvSpPr>
            <p:spPr>
              <a:xfrm flipH="1">
                <a:off x="1234080" y="737640"/>
                <a:ext cx="103680" cy="925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2"/>
              <p:cNvSpPr/>
              <p:nvPr/>
            </p:nvSpPr>
            <p:spPr>
              <a:xfrm flipH="1">
                <a:off x="1383480" y="778320"/>
                <a:ext cx="104760" cy="810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3"/>
              <p:cNvSpPr/>
              <p:nvPr/>
            </p:nvSpPr>
            <p:spPr>
              <a:xfrm flipH="1">
                <a:off x="1285560" y="802800"/>
                <a:ext cx="20160" cy="15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4"/>
              <p:cNvSpPr/>
              <p:nvPr/>
            </p:nvSpPr>
            <p:spPr>
              <a:xfrm flipH="1">
                <a:off x="1398600" y="829440"/>
                <a:ext cx="17280" cy="136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5"/>
              <p:cNvSpPr/>
              <p:nvPr/>
            </p:nvSpPr>
            <p:spPr>
              <a:xfrm flipH="1">
                <a:off x="1362960" y="853560"/>
                <a:ext cx="34920" cy="44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6"/>
              <p:cNvSpPr/>
              <p:nvPr/>
            </p:nvSpPr>
            <p:spPr>
              <a:xfrm flipH="1">
                <a:off x="978120" y="859680"/>
                <a:ext cx="71280" cy="597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7"/>
              <p:cNvSpPr/>
              <p:nvPr/>
            </p:nvSpPr>
            <p:spPr>
              <a:xfrm flipH="1">
                <a:off x="1242360" y="904320"/>
                <a:ext cx="18720" cy="100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8"/>
              <p:cNvSpPr/>
              <p:nvPr/>
            </p:nvSpPr>
            <p:spPr>
              <a:xfrm flipH="1">
                <a:off x="1438920" y="915480"/>
                <a:ext cx="179280" cy="143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9"/>
              <p:cNvSpPr/>
              <p:nvPr/>
            </p:nvSpPr>
            <p:spPr>
              <a:xfrm flipH="1">
                <a:off x="933480" y="919800"/>
                <a:ext cx="296280" cy="159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 flipH="1">
                <a:off x="586440" y="948960"/>
                <a:ext cx="133200" cy="268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 flipH="1">
                <a:off x="1548000" y="982080"/>
                <a:ext cx="21600" cy="24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 flipH="1">
                <a:off x="857160" y="1224720"/>
                <a:ext cx="323280" cy="36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3"/>
              <p:cNvSpPr/>
              <p:nvPr/>
            </p:nvSpPr>
            <p:spPr>
              <a:xfrm flipH="1">
                <a:off x="968760" y="1266840"/>
                <a:ext cx="211680" cy="237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 flipH="1">
                <a:off x="552600" y="819000"/>
                <a:ext cx="1152720" cy="402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Picture 35" descr="pe01821_"/>
            <p:cNvPicPr/>
            <p:nvPr/>
          </p:nvPicPr>
          <p:blipFill>
            <a:blip r:embed="rId1"/>
            <a:stretch/>
          </p:blipFill>
          <p:spPr>
            <a:xfrm>
              <a:off x="7331040" y="4057920"/>
              <a:ext cx="1679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6" descr="pe02310_"/>
            <p:cNvPicPr/>
            <p:nvPr/>
          </p:nvPicPr>
          <p:blipFill>
            <a:blip r:embed="rId2"/>
            <a:stretch/>
          </p:blipFill>
          <p:spPr>
            <a:xfrm>
              <a:off x="324000" y="4286520"/>
              <a:ext cx="1415880" cy="14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Стрелка вправо с вырезом 35"/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воей работе я рассмотрела различные способы решений одной геометр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, используя известные методы. Как правило, основными метод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метрических задач являются алгебраический и тригонометрический метод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как видно из работы, геометрические методы оказались проще и изящней, хотя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м можно подойти лишь начертив вспомогательные ли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зируя все решения, я сделала для себя важные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вод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Во-перв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благодаря такой работе снимается психологический барьер перед пои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я задачи. Ведь если знаешь, что задача имеет несколько способов решения, 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лее берешься за неё. Постепенно, решая задачу за задачей, приобретаешь не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ыт, что позволит развить математическое чу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Во-вторых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дробный разбор способов решения задач является хорошим подспорь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того, чтобы освежить в памяти пройденный материал и подготовиться к ЕГ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В-третьи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ри такой работе над задачей формируется логическое мышл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ется интуиция, систематизируются знания, расширяется общеобразовате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угоз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В-четверт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овладевая основными методами решения задач, составляющ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жную часть многих эвристических алгоритмов, можно рационально планиро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решения задачи, выполнять полезные преобразования условия задачи, а так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ть известные приемы познавательной деятельности – наблюд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внение, обобщ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Все перечисленное создает условия для формирования навыков исследовательской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деятельности, способствующей накоплению творческого потенц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195640" y="274680"/>
            <a:ext cx="36003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5" descr="jesti-336"/>
          <p:cNvPicPr/>
          <p:nvPr/>
        </p:nvPicPr>
        <p:blipFill>
          <a:blip r:embed="rId1"/>
          <a:stretch/>
        </p:blipFill>
        <p:spPr>
          <a:xfrm>
            <a:off x="7164360" y="189000"/>
            <a:ext cx="1081080" cy="79200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право с вырезом 4"/>
          <p:cNvSpPr/>
          <p:nvPr/>
        </p:nvSpPr>
        <p:spPr>
          <a:xfrm>
            <a:off x="7786800" y="6286680"/>
            <a:ext cx="928440" cy="357120"/>
          </a:xfrm>
          <a:custGeom>
            <a:avLst/>
            <a:gdLst>
              <a:gd name="textAreaLeft" fmla="*/ 89280 w 928440"/>
              <a:gd name="textAreaRight" fmla="*/ 839160 w 9284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46" y="5400"/>
                </a:lnTo>
                <a:lnTo>
                  <a:pt x="17446" y="0"/>
                </a:lnTo>
                <a:lnTo>
                  <a:pt x="21600" y="10800"/>
                </a:lnTo>
                <a:lnTo>
                  <a:pt x="17446" y="21600"/>
                </a:lnTo>
                <a:lnTo>
                  <a:pt x="17446" y="16200"/>
                </a:lnTo>
                <a:lnTo>
                  <a:pt x="0" y="16200"/>
                </a:lnTo>
                <a:lnTo>
                  <a:pt x="20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</a:rPr>
              <a:t>Наз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00:40Z</dcterms:created>
  <dc:creator>Customer</dc:creator>
  <dc:description/>
  <dc:language>en-US</dc:language>
  <cp:lastModifiedBy>Сервер</cp:lastModifiedBy>
  <dcterms:modified xsi:type="dcterms:W3CDTF">2012-12-17T09:29:10Z</dcterms:modified>
  <cp:revision>26</cp:revision>
  <dc:subject/>
  <dc:title>Слайд 1</dc:title>
</cp:coreProperties>
</file>