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7.gif" ContentType="image/gif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8.gif" ContentType="image/gif"/>
  <Override PartName="/ppt/media/image18.jpeg" ContentType="image/jpeg"/>
  <Override PartName="/ppt/media/image5.jpeg" ContentType="image/jpeg"/>
  <Override PartName="/ppt/media/image32.gif" ContentType="image/gif"/>
  <Override PartName="/ppt/media/image9.jpeg" ContentType="image/jpeg"/>
  <Override PartName="/ppt/media/image6.png" ContentType="image/png"/>
  <Override PartName="/ppt/media/image11.jpeg" ContentType="image/jpeg"/>
  <Override PartName="/ppt/media/image31.gif" ContentType="image/gif"/>
  <Override PartName="/ppt/media/image12.jpeg" ContentType="image/jpeg"/>
  <Override PartName="/ppt/media/image10.gif" ContentType="image/gif"/>
  <Override PartName="/ppt/media/image30.jpeg" ContentType="image/jpeg"/>
  <Override PartName="/ppt/media/image3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19.gif" ContentType="image/gif"/>
  <Override PartName="/ppt/media/image14.jpeg" ContentType="image/jpeg"/>
  <Override PartName="/ppt/media/image28.gif" ContentType="image/gif"/>
  <Override PartName="/ppt/media/image15.jpeg" ContentType="image/jpeg"/>
  <Override PartName="/ppt/media/image16.jpeg" ContentType="image/jpeg"/>
  <Override PartName="/ppt/media/image13.png" ContentType="image/png"/>
  <Override PartName="/ppt/media/image20.gif" ContentType="image/gif"/>
  <Override PartName="/ppt/media/image21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44FC-1834-43A7-B6F1-9D043DCA2A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5DE1-1E90-4932-82BB-A7CFD70B5E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2604-4721-4020-AAC5-71D744CC19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0678-F43A-4148-ADAF-CA490844FF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3A05-8E9D-4D90-804D-388B25DB79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9CE7-AFC7-4D6B-9C89-74439D320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5BCE-83BD-4A6C-A3C5-5D3D05B7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CDE1-95F6-462F-BE45-BD6099A0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335E-BACE-4F78-BD66-61D64D965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283D-8BF3-4D9B-ADAA-B2610047E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6A57-E64C-4150-A91F-AFF0D539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2F2A-CA08-47F1-AB18-0871EDE4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743EF-F373-41C8-983D-47C4C9E1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02BE-54F6-48C5-9045-7660DB69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8F77-AB20-4414-8011-3577F3FF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10DB-8B62-4B81-8BCA-6CC90167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0DA2-521A-4B27-B09C-4CE279C1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157D-33B9-4A5B-95FD-C8874F4E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1C3A-81C8-4E53-B6BE-838CB62D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1AC2-9B2D-42B4-9BEB-5412B5DA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DF52-0BCC-4C39-9064-7610FFC5A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2A8B-C30C-4A9F-8C1F-58DC06F22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08D5-D667-423E-ABF2-FB9FEDF4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8348-E66A-4F9E-A57D-DBF108F0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B8A8-3EE2-42E1-9106-AEEC79B5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8DD1-12A8-4536-8BA9-817912F0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086B-2D28-45D1-AEFE-91510928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875D-57F0-45AB-90E4-C77C8C36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79E9-4272-4A3E-B763-8C067272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92C9-FDDD-4FE6-9670-27695ED9EF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E02D-DE4A-4A9B-A9B4-9EE5B5B7C74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belkablog.com/moloko" TargetMode="External"/><Relationship Id="rId2" Type="http://schemas.openxmlformats.org/officeDocument/2006/relationships/hyperlink" Target="http://www.kumushka.com/household/1495-zagotavlivaemseno.htmlhttp:/www.kumushka.com/household/1495-zagotavlivaem-seno.html" TargetMode="External"/><Relationship Id="rId3" Type="http://schemas.openxmlformats.org/officeDocument/2006/relationships/hyperlink" Target="https://yandex.ru/images/search?text=&#1082;&#1072;&#1088;&#1090;&#1080;&#1085;&#1082;&#1080;%20&#1084;&#1072;&#1090;&#1077;&#1084;&#1072;&#1090;&#1080;&#1082;&#1072;" TargetMode="External"/><Relationship Id="rId4" Type="http://schemas.openxmlformats.org/officeDocument/2006/relationships/hyperlink" Target="http://slovari.yandex.ru/dict/bse/article/00061/77300.htm" TargetMode="External"/><Relationship Id="rId5" Type="http://schemas.openxmlformats.org/officeDocument/2006/relationships/hyperlink" Target="https://yandex.ru/images?parent-reqid=1513008747184006-1120555865284317977671174-vla12432&amp;source=wiz" TargetMode="External"/><Relationship Id="rId6" Type="http://schemas.openxmlformats.org/officeDocument/2006/relationships/hyperlink" Target="https://yandex.ru/images/search?p=1&amp;text=&#1082;&#1072;&#1088;&#1090;&#1080;&#1085;&#1082;&#1080;%20&#1084;&#1072;&#1090;&#1077;&#1084;&#1072;&#1090;&#1080;&#1082;&#1072;%20&#1074;%20&#1083;&#1080;&#1095;&#1085;&#1086;&#1084;%20&#1093;&#1086;&#1079;&#1103;&#1081;&#1089;&#1090;&#1074;&#1077;&amp;noreask=1&amp;lr=4" TargetMode="External"/><Relationship Id="rId7" Type="http://schemas.openxmlformats.org/officeDocument/2006/relationships/image" Target="../media/image31.gif"/><Relationship Id="rId8" Type="http://schemas.openxmlformats.org/officeDocument/2006/relationships/image" Target="../media/image32.gif"/><Relationship Id="rId9" Type="http://schemas.openxmlformats.org/officeDocument/2006/relationships/image" Target="../media/image3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3" descr=""/>
          <p:cNvPicPr/>
          <p:nvPr/>
        </p:nvPicPr>
        <p:blipFill>
          <a:blip r:embed="rId1"/>
          <a:stretch/>
        </p:blipFill>
        <p:spPr>
          <a:xfrm>
            <a:off x="189000" y="262080"/>
            <a:ext cx="8955000" cy="613224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8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Прямоугольник 9" descr=""/>
          <p:cNvPicPr/>
          <p:nvPr/>
        </p:nvPicPr>
        <p:blipFill>
          <a:blip r:embed="rId2"/>
          <a:stretch/>
        </p:blipFill>
        <p:spPr>
          <a:xfrm>
            <a:off x="1047600" y="1695600"/>
            <a:ext cx="7419960" cy="71892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6" descr=""/>
          <p:cNvPicPr/>
          <p:nvPr/>
        </p:nvPicPr>
        <p:blipFill>
          <a:blip r:embed="rId3"/>
          <a:stretch/>
        </p:blipFill>
        <p:spPr>
          <a:xfrm>
            <a:off x="2328840" y="1884240"/>
            <a:ext cx="6643800" cy="70668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7" descr="http://900igr.net/up/datai/263955/0013-015-.jpg"/>
          <p:cNvPicPr/>
          <p:nvPr/>
        </p:nvPicPr>
        <p:blipFill>
          <a:blip r:embed="rId4"/>
          <a:stretch/>
        </p:blipFill>
        <p:spPr>
          <a:xfrm>
            <a:off x="179280" y="549360"/>
            <a:ext cx="2376720" cy="28479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0" descr="https://sch11-schel.edumsko.ru/uploads/3000/2063/section/225428/7330_html_242e3bcf.jpg?1473089659707"/>
          <p:cNvPicPr/>
          <p:nvPr/>
        </p:nvPicPr>
        <p:blipFill>
          <a:blip r:embed="rId5"/>
          <a:stretch/>
        </p:blipFill>
        <p:spPr>
          <a:xfrm>
            <a:off x="4859280" y="4437000"/>
            <a:ext cx="31687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атематика  в растениевод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Содержимое 3" descr="http://bigslide.ru/images/5/4231/960/img1.jpg"/>
          <p:cNvPicPr/>
          <p:nvPr/>
        </p:nvPicPr>
        <p:blipFill>
          <a:blip r:embed="rId1"/>
          <a:stretch/>
        </p:blipFill>
        <p:spPr>
          <a:xfrm>
            <a:off x="468360" y="1052640"/>
            <a:ext cx="79912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68360" y="692280"/>
            <a:ext cx="835344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папа –механизатор, я часто ему помогаю или просто с ним катаюс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де же ему нужна математик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имнее  и весеннее время он работает на тракторе. Ему нужно знать расход топлива, при вспашке зем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лубину вспашки и многое другое.  А для этого надо уметь решать простейшие математические задач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борочную пору он работает на зерноуборочном комбайне.  Чтобы узнать урожайность на поле, н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о ждать окончания уборки. Урожайность убираемой культуры  можно приближенно оценить в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заполнения зерном бункера комбайна. Я помогал в этом отцу. Приведу пример задач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дач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е  урожайность  культуры, масса 1м</a:t>
            </a:r>
            <a:r>
              <a:rPr b="0" lang="ru-RU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рна которой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г, если уборка производится на скорости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м/ч комбайном с шириной захвата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 и емкостью бункера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</a:t>
            </a:r>
            <a:r>
              <a:rPr b="0" lang="ru-RU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нкер заполняется  за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ин [11].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ешение</a:t>
            </a:r>
            <a:r>
              <a:rPr b="1" lang="ru-RU" sz="1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: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ремя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мбайн проходит путь l: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t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3 м, скашивая прямоугольный участок длины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ины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Обозначим  з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ц/га –урожайность, тогда х=(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V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vt)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/га. Подставив в формулу вс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найдем урожайн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ывод: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ого чтобы решать такие задачи, нужны математические знания  и умения работы 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ческими формулами, знать математические единицы измерения и уметь с ними  работ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Прямоугольник 9" descr=""/>
          <p:cNvPicPr/>
          <p:nvPr/>
        </p:nvPicPr>
        <p:blipFill>
          <a:blip r:embed="rId1"/>
          <a:stretch/>
        </p:blipFill>
        <p:spPr>
          <a:xfrm>
            <a:off x="390600" y="165240"/>
            <a:ext cx="8472240" cy="64584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4" descr="http://s.marketwatch.com/public/resources/MWimages/MW-DO098_farm_h_ZG_20150615132138.jpg"/>
          <p:cNvPicPr/>
          <p:nvPr/>
        </p:nvPicPr>
        <p:blipFill>
          <a:blip r:embed="rId2"/>
          <a:stretch/>
        </p:blipFill>
        <p:spPr>
          <a:xfrm>
            <a:off x="395280" y="4941720"/>
            <a:ext cx="2376360" cy="16560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3" descr="http://sovch.chuvashia.com/wp-content/uploads/_dscn7339.jpg"/>
          <p:cNvPicPr/>
          <p:nvPr/>
        </p:nvPicPr>
        <p:blipFill>
          <a:blip r:embed="rId3"/>
          <a:stretch/>
        </p:blipFill>
        <p:spPr>
          <a:xfrm>
            <a:off x="3419640" y="4869000"/>
            <a:ext cx="2592360" cy="160956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4" descr="https://1tulatv.ru/sites/default/files/274171225.jpg"/>
          <p:cNvPicPr/>
          <p:nvPr/>
        </p:nvPicPr>
        <p:blipFill>
          <a:blip r:embed="rId4"/>
          <a:stretch/>
        </p:blipFill>
        <p:spPr>
          <a:xfrm>
            <a:off x="6516720" y="4941720"/>
            <a:ext cx="232092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атематика в личном подсобном хозяй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836280"/>
            <a:ext cx="8640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ение домашнего хозяйства требует высокой квалификации, универсальных знаний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образных навыков. Домашнее хозяйство-это вторая профессия каждого и без математическ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й и умений здесь не обойтись. Домашняя арифметика состоит в том, чтобы определить ве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ного, найти вес скирды сена, составить экономный и эффективный рационный рацион для скотин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читать количество удобрений для огорода. Это требует универсальных знаний и разнообраз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ыков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Наша семья многодетная и  мы, как  и многие люди, в личном подсобном хозяйстве  для пополн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 </a:t>
            </a:r>
            <a:r>
              <a:rPr b="1" i="1" lang="ru-RU" sz="1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семейного бюджета выкармливаем на мясо бычков и телок, выручая за это деньги. Но  в условия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индивидуального хозяйства нет возможности определить живой вес крупных животных пут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взвеши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пользуемся методом обмера с помощью ленты и далее по таблице из книг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Я.Лебедько «Определение живой массы сельскохозяйственных живот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мера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ем приближенно вес бычка [10]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живую массу крупно - рогатого скота можно определить по формуле: М=(АВ)\(100К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A-обхват груди за лопатками, с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- прямая длина туловища, измеряемая палкой, с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 поправочный коэффициен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 – для скота молочных пород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5 – для молочно-мясных и мясных пород) [10]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вод: 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помощью обмера и по таблице  я могу определи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рный вес бычка  или коровы. Для этого надо  уметь делать обмер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меть работать с математическими   таблицами и формул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3" descr="hello_html_6ddadfa4.png"/>
          <p:cNvPicPr/>
          <p:nvPr/>
        </p:nvPicPr>
        <p:blipFill>
          <a:blip r:embed="rId1"/>
          <a:stretch/>
        </p:blipFill>
        <p:spPr>
          <a:xfrm>
            <a:off x="6181560" y="4653000"/>
            <a:ext cx="2278080" cy="18003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Расход картофеля на огороде площадью 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8000" y="836280"/>
            <a:ext cx="5976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сельский житель имеет огород, на котор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щивает овощи .  Мы сажаем  картофель на   больш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 огорода, чтобы хватило на зиму. Вместе с мам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уборки урожая, мы сортируем его на посадочный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мовой. Чтобы оставить на посадку нужное количест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феля , надо уметь решать задачи такого типа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Задача: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посадки картофеля традиционная: 70 с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рядами, 20 см в ряду. Размеры участка: длина 7 м, шири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м. Масса посадочного материала картофеля 25 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 расход посадочного материала на данном участке? [9]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Реше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бороздами 70 см, 8 бороздок, между клубнями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озде 20 см – 20 клубень в одной борозде. Тог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уется 8*20 =160 картофелин, и расход посадоч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а составит 160*25=4000 г.Ответ: около 4 к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Вывод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 дома , и на работе - везде  нужны  математические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я  и умения производить  математические расчеты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2" descr="http://newsbel.by/wp-content/uploads/2016/10/newsbel.by-25.10.2016-qDGKDdsDEU45ddIXe1JaeIbV50YcBwn1.jpg"/>
          <p:cNvPicPr/>
          <p:nvPr/>
        </p:nvPicPr>
        <p:blipFill>
          <a:blip r:embed="rId1"/>
          <a:stretch/>
        </p:blipFill>
        <p:spPr>
          <a:xfrm>
            <a:off x="5940360" y="3789360"/>
            <a:ext cx="2879640" cy="2719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4" descr="E:\смайтлики\jesti-322.gif"/>
          <p:cNvPicPr/>
          <p:nvPr/>
        </p:nvPicPr>
        <p:blipFill>
          <a:blip r:embed="rId2"/>
          <a:stretch/>
        </p:blipFill>
        <p:spPr>
          <a:xfrm>
            <a:off x="324000" y="260280"/>
            <a:ext cx="882360" cy="50472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9" descr="http://xn----8sbcgjdnfczvhfb7cc6c6l.xn--p1ai/upload/iblock/d16/d168ccc05dbd6c742ff6e5cf866755f2.jpg"/>
          <p:cNvPicPr/>
          <p:nvPr/>
        </p:nvPicPr>
        <p:blipFill>
          <a:blip r:embed="rId3"/>
          <a:stretch/>
        </p:blipFill>
        <p:spPr>
          <a:xfrm>
            <a:off x="5867280" y="765000"/>
            <a:ext cx="297036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ключени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23640" y="591840"/>
            <a:ext cx="850716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ов применения математики и математических формул  в повседневной жизн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.   Я выбрал использование  математических знаний и умений в  сельском  хозяйств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ывая профессии родителей  учащихся  нашего класса,  а также в личном подсобн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йстве.   Думаю, что мне удалось доказать важность изучения математики и е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я на примерах, взятых из жизни наших родителей.   Знание и умение применя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ческие формулы помогают определить вес сена, если взвесить его не представляе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ым, определить живую массу коровы, когда нет весов, это удобно для люд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щих домашнее хозяйств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я исследовательскую работу, я нашел факты, убеждающие  в огромной рол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и в сельском хозяйстве, в необходимости получения математических знаний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я применять их . Еще раз доказал, что чем шире математическая подготовка, т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сложные задачи человек может выполни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я с разными   источниками   информации , сделал следующие выводы: все, чем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т в школе, пригодится нам во взрослой жизни. Доказал, что математика в нашей жизн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а во всех сферах деятельности, в том числе и  сельском хозяйст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Рисунок 3" descr="http://www.clipartsgram.com/image/1481459409-mathematics-student-with-math-symbols-classroom-clipart-eryezh-clipart.jpg"/>
          <p:cNvPicPr/>
          <p:nvPr/>
        </p:nvPicPr>
        <p:blipFill>
          <a:blip r:embed="rId1"/>
          <a:stretch/>
        </p:blipFill>
        <p:spPr>
          <a:xfrm>
            <a:off x="3203640" y="5013360"/>
            <a:ext cx="2736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Список использованных</a:t>
            </a:r>
            <a:br>
              <a:rPr sz="2800"/>
            </a:br>
            <a:r>
              <a:rPr b="1" lang="ru-RU" sz="28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 источников и литератур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4000" y="836280"/>
            <a:ext cx="8640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belkablog.com/molok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www.kumushka.com/household/1495-zagotavlivaemseno.htmlhttp://www.kumushka.com/household/1495 zagotavlivaem-seno.htm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</a:t>
            </a:r>
            <a:r>
              <a:rPr b="0" lang="ru-RU" sz="13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s://yandex.ru/images/search?text=картинки%20математи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  </a:t>
            </a:r>
            <a:r>
              <a:rPr b="0" lang="ru-RU" sz="13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slovari.yandex.ru/dict/bse/article/00061/77300.htm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s://yandex.ru/images?parent-reqid=1513008747184006-1120555865284317977671174-vla12432&amp;source=wiz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s://yandex.ru/images/search?p=1&amp;text=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ки%20математика%20в%20личном%20хозяйстве&amp;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eask=1&amp;lr=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ttps://yandex.ru/images/search?text=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ьное%20молоко%20картинки&amp;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eask=1&amp;im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   Ващенко И.М. Практикум по основам сельского хозяйства,М., 198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   Волосов Ю.Хранение картофеля,М., 197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  Лебедько Е.Я. «Определение живой массы сельскохозяйственных животных по промерам/Практическое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ство.- М.: ООО «Аквариум – Принт», 2006, - 48 с: ил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  Петров В.А. Преподавание  математики в сельской школе.М. «Просвещение» , 198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  Свирщевский Б.С. Эксплуатация машинно- тракторного парка,М., 197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  Сельская школа: проблемы организации образовательного процесса: Сб. статей //Материалы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российской научно – практической конференции «Развитие инновационного потенциала сельской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ы: возможности и перспективы. Комплексные сельские образовательные системы как перспективные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 для возрождения и развития сельского социума в России» - М.: Исследовательский центр проблем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а подготовки специалистов, 200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   Смирнов В. Фермерское подворье. – М.: РИПОЛ КЛАССИК, 2003. – 480 с.: ил. –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омашняя энциклопедия фермера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  Энциклопедический словарь юного земледельца.М., 1983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detia-824"/>
          <p:cNvPicPr/>
          <p:nvPr/>
        </p:nvPicPr>
        <p:blipFill>
          <a:blip r:embed="rId7"/>
          <a:stretch/>
        </p:blipFill>
        <p:spPr>
          <a:xfrm>
            <a:off x="7236000" y="5300640"/>
            <a:ext cx="1506240" cy="1297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5" descr="knigi-68"/>
          <p:cNvPicPr/>
          <p:nvPr/>
        </p:nvPicPr>
        <p:blipFill>
          <a:blip r:embed="rId8"/>
          <a:stretch/>
        </p:blipFill>
        <p:spPr>
          <a:xfrm>
            <a:off x="539640" y="189000"/>
            <a:ext cx="115272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7" descr="http://pandia.ru/text/78/449/images/image001_54.jpg"/>
          <p:cNvPicPr/>
          <p:nvPr/>
        </p:nvPicPr>
        <p:blipFill>
          <a:blip r:embed="rId9"/>
          <a:stretch/>
        </p:blipFill>
        <p:spPr>
          <a:xfrm>
            <a:off x="7451640" y="115920"/>
            <a:ext cx="144144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39640" y="1125360"/>
            <a:ext cx="8064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известные математики говорят, что главное в математике — научить человека мыслить, ставя порою перед ним очень сложные задания. 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 развивает логическое мышление, умение самостоятельно решать проблемы, способность быстро уловить суть и найти к жизненной задаче наиболее подходящий и простой подход.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 тесно связана с нашей повседневной жизнью. Она встречается в нашей жизни практически на каждом шагу и не такая уж она серая и скучная, а разноцветная и веселая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ычислять, логически мыслить, быть настойчивым и упорным, аккуратным и внимательным – эти качества необходимы каждому человеку. Они являются основой хорошего понимания математи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чусь в пятом классе и самым любимым предметом является  математика. Я люблю свой край, свое село.  Мои родители работают в сельском хозяйстве. У меня есть мечта- выучиться и вернуться в свое село. Я еще не  решил, кем я буду, когда вырасту, но уверен, что  математические знания будут мне нужны и  решил провести исследование  и ответить на вопросы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ужна  ли математика  в сельском хозяйстве, в сельской местности?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асто ли сельские жители  применяют математику в жизни? Каким образом?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Прямоугольник 3" descr=""/>
          <p:cNvPicPr/>
          <p:nvPr/>
        </p:nvPicPr>
        <p:blipFill>
          <a:blip r:embed="rId1"/>
          <a:stretch/>
        </p:blipFill>
        <p:spPr>
          <a:xfrm>
            <a:off x="603360" y="103320"/>
            <a:ext cx="8369280" cy="622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E:\смайтлики\jesti-233.gif"/>
          <p:cNvPicPr/>
          <p:nvPr/>
        </p:nvPicPr>
        <p:blipFill>
          <a:blip r:embed="rId2"/>
          <a:stretch/>
        </p:blipFill>
        <p:spPr>
          <a:xfrm>
            <a:off x="7812000" y="5877000"/>
            <a:ext cx="936720" cy="593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E:\смайтлики\jesti-242.gif"/>
          <p:cNvPicPr/>
          <p:nvPr/>
        </p:nvPicPr>
        <p:blipFill>
          <a:blip r:embed="rId3"/>
          <a:stretch/>
        </p:blipFill>
        <p:spPr>
          <a:xfrm>
            <a:off x="324000" y="404640"/>
            <a:ext cx="10080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78920" y="-360"/>
            <a:ext cx="79930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работы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ить знания о применении математики в сельском хозяйств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ь важность  изучения математ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рабо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ь литературу о применении математики  в сельском хозяйств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рать и обработать информацию о применении математики  в различ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ях сельского хозяй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мнения обучающихся и родителей о применении математики в сельском хозяйстве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ождение сельского хозяйства- первостепенная задача государ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звития сельского хозяйства, села -  нужны грамотные специалисты, знающие рабочие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ческие знания  помогают во всех отраслях сельского хозяйства: в животноводстве,  растениеводств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ая значимость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а заключается в составлении рекомендаций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ельчан по применению математики в сельском хозяйст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если человек знает математику, то сам найдет ее применение в жизни во все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ерах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7" descr="http://itd1.mycdn.me/image?id=815552795494&amp;t=20&amp;plc=WEB&amp;tkn=*PL9K0GyHZHDWxSNnndWmYy3Ogd8"/>
          <p:cNvPicPr/>
          <p:nvPr/>
        </p:nvPicPr>
        <p:blipFill>
          <a:blip r:embed="rId1"/>
          <a:stretch/>
        </p:blipFill>
        <p:spPr>
          <a:xfrm>
            <a:off x="7380360" y="333360"/>
            <a:ext cx="1584360" cy="1800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knigi-186"/>
          <p:cNvPicPr/>
          <p:nvPr/>
        </p:nvPicPr>
        <p:blipFill>
          <a:blip r:embed="rId2"/>
          <a:stretch/>
        </p:blipFill>
        <p:spPr>
          <a:xfrm>
            <a:off x="7956720" y="4437000"/>
            <a:ext cx="10620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Содержимое 3" descr="https://allyslide.com/thumbs/6802b7aaff0d98213500c9703cce317c/img2.jpg"/>
          <p:cNvPicPr/>
          <p:nvPr/>
        </p:nvPicPr>
        <p:blipFill>
          <a:blip r:embed="rId1"/>
          <a:stretch/>
        </p:blipFill>
        <p:spPr>
          <a:xfrm>
            <a:off x="468360" y="189000"/>
            <a:ext cx="835164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тематика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 животновод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Содержимое 3" descr="https://ds03.infourok.ru/uploads/ex/022e/00039825-7521d56a/3/img6.jpg"/>
          <p:cNvPicPr/>
          <p:nvPr/>
        </p:nvPicPr>
        <p:blipFill>
          <a:blip r:embed="rId1"/>
          <a:stretch/>
        </p:blipFill>
        <p:spPr>
          <a:xfrm>
            <a:off x="755640" y="126828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йте дети молоко –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будете здоро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3640" y="148428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родители  моих одноклассников  работают на  молочной ферм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коров получают молоко, которое распространяют по области и за ее пределы. Молок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олочные продукты –полезные продукты питания. В молоке содержится более 20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образных органических и минеральных веществ. В  молочных продукта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тствуют  вещества необходимые человеческому организм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етические (удовлетворяющие потребность человека в энергии; пластические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з которых строятся клетки и ткани); регуляторные (участвующие в обменных процессах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детей молоко - это необходимый продук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бернатор Белгородской области Е.С.Савченко заботится о здоровье и полноценн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ании подрастающего поколения и  выделяются средства на то, чтобы в школах  и садика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ей  области  детям бесплатно давали молок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нению диетологов, физиологов, педиатров молоко и молочные продукты имею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омное значение для умственного и физического развития де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чень важно, чтобы суточные надои молока  на фермах увеличивались, для того чтоб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ем людям хватало молока и молочных продуктов. Я заинтересовался вопросам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язанными  с количеством  молока , полученного на ферме  в нашем сел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 чего это зависит и нужна ли здесь математика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4" descr="http://school83.centerstart.ru/sites/default/files/zakladka-2_0.png"/>
          <p:cNvPicPr/>
          <p:nvPr/>
        </p:nvPicPr>
        <p:blipFill>
          <a:blip r:embed="rId1"/>
          <a:stretch/>
        </p:blipFill>
        <p:spPr>
          <a:xfrm>
            <a:off x="0" y="189000"/>
            <a:ext cx="2556000" cy="12952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5" descr="https://arhivurokov.ru/kopilka/uploads/user_file_5513e1c6d14f2/issliedovatiel-skaia-rabota-moloko-produkt-polieznyi_9.jpeg"/>
          <p:cNvPicPr/>
          <p:nvPr/>
        </p:nvPicPr>
        <p:blipFill>
          <a:blip r:embed="rId2"/>
          <a:stretch/>
        </p:blipFill>
        <p:spPr>
          <a:xfrm>
            <a:off x="6516720" y="115920"/>
            <a:ext cx="165564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Математика на ферме</a:t>
            </a:r>
            <a:br>
              <a:rPr sz="2800"/>
            </a:br>
            <a:r>
              <a:rPr b="1" lang="ru-RU" sz="2800" spc="-1" strike="noStrike">
                <a:solidFill>
                  <a:srgbClr val="6b6bcf"/>
                </a:solidFill>
                <a:latin typeface="Times New Roman"/>
                <a:ea typeface="Times New Roman"/>
              </a:rPr>
              <a:t>Расчет кормов  для коров на зимний пери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50920" y="1341000"/>
            <a:ext cx="5400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были надои молока большие, надо  хорош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мить  коров.  А для этого надо уметь рассчитыва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кормов , их калорий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 на ферме нужна для расчета кормов д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в, заготовленных на зиму. Я решил посчита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сена , необходимого  фуражным корова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ферме в нашем селе и составил задач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адач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й корове в сутки в зимний период требуется 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г сена [2] .  В  нашем селе 260 голов фуражных ко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центнеров сена потребуется на зимн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, считая с 1 ноября по 1 мая (180 дней)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еше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0* 12=3120 кг надо 260 коровам в сут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20*180=561 600 кг = 5616 ц сена потребуется 260 коровам  на зимний пери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ывод: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 на ферме нужна для расчета корм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отовленных на зиму, их калорийности и т. д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3" descr="http://xn--i1abbnckbmcl9fb.xn--p1ai/%D1%81%D1%82%D0%B0%D1%82%D1%8C%D0%B8/576243/img1.jpg"/>
          <p:cNvPicPr/>
          <p:nvPr/>
        </p:nvPicPr>
        <p:blipFill>
          <a:blip r:embed="rId1"/>
          <a:stretch/>
        </p:blipFill>
        <p:spPr>
          <a:xfrm>
            <a:off x="5651640" y="1484280"/>
            <a:ext cx="3313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довые надои молока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нашей фер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126828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адач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с на ферме 260 дойных коров. 1 корова в среднем за сутки дает 16 кг молока, а за го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* 365=5840 кг молока. 260 коров дают за год  5840 *260=1 518 400 кг=1 518, 4 т молока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реднем 1 человеку надо употреблять молока в сутки около 500 грамм. У нас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е проживает  около 800 человек.   Посчитав  в среднем потребление молока наши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елями за год, получил, что на нашей ферме надои молока высокие и  превышают в 1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. Что позволит сельское и городское население обеспечить  нужным количеством моло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3" descr="https://prikolnye-kartinki.ru/img/picture/Sep/28/ae8dc6ee411800bd14baf182fbf38897/1.jpg"/>
          <p:cNvPicPr/>
          <p:nvPr/>
        </p:nvPicPr>
        <p:blipFill>
          <a:blip r:embed="rId1"/>
          <a:stretch/>
        </p:blipFill>
        <p:spPr>
          <a:xfrm>
            <a:off x="2411280" y="3429000"/>
            <a:ext cx="4824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ение жирности мол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39640" y="1268280"/>
            <a:ext cx="4546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ческие знания  нужны  для определ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ности молока. Известно, что  коровы даю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ко различной жирности. Принятое о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йства молоко засчитывают в  выполн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а  в перерасчете на  установленную в дан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ности базисную жир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а ферма  сдала вчера  государств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60 кг молока жирности 3,52%. Скольк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ка засчитали в выполнение плана?[11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ше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знать базисную жирность молока. Пу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составляет 3,60%. Искомое  количество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ем из уравнения 3,6 х=3.52*416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вод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я исследование,  я доказал, что без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и не обойтись при подсчете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ности молока,  суточных  надоев и т. 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3" descr="Математика и сельское хозяйство"/>
          <p:cNvPicPr/>
          <p:nvPr/>
        </p:nvPicPr>
        <p:blipFill>
          <a:blip r:embed="rId1"/>
          <a:stretch/>
        </p:blipFill>
        <p:spPr>
          <a:xfrm>
            <a:off x="5364000" y="4005360"/>
            <a:ext cx="3168720" cy="22320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4" descr="Математика и сельское хозяйство"/>
          <p:cNvPicPr/>
          <p:nvPr/>
        </p:nvPicPr>
        <p:blipFill>
          <a:blip r:embed="rId2"/>
          <a:stretch/>
        </p:blipFill>
        <p:spPr>
          <a:xfrm>
            <a:off x="5364000" y="1484280"/>
            <a:ext cx="3168720" cy="2232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E:\смайтлики\jesti-272.gif"/>
          <p:cNvPicPr/>
          <p:nvPr/>
        </p:nvPicPr>
        <p:blipFill>
          <a:blip r:embed="rId3"/>
          <a:stretch/>
        </p:blipFill>
        <p:spPr>
          <a:xfrm>
            <a:off x="5003640" y="5661000"/>
            <a:ext cx="720720" cy="100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E:\смайтлики\jesti-301.gif"/>
          <p:cNvPicPr/>
          <p:nvPr/>
        </p:nvPicPr>
        <p:blipFill>
          <a:blip r:embed="rId4"/>
          <a:stretch/>
        </p:blipFill>
        <p:spPr>
          <a:xfrm>
            <a:off x="539640" y="549360"/>
            <a:ext cx="86364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11:00:40Z</dcterms:created>
  <dc:creator>Customer</dc:creator>
  <dc:description/>
  <dc:language>en-US</dc:language>
  <cp:lastModifiedBy>11</cp:lastModifiedBy>
  <dcterms:modified xsi:type="dcterms:W3CDTF">2021-01-12T12:34:57Z</dcterms:modified>
  <cp:revision>188</cp:revision>
  <dc:subject/>
  <dc:title>Слайд 1</dc:title>
</cp:coreProperties>
</file>